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3BAC-8F5F-4B99-8FEC-15B86B07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FE2-0084-4352-8402-E3613BA7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776-9CB3-4C84-A116-213148F5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811-B6CF-45B9-86EE-046117FB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5634-8DA7-4D4A-9FE6-2AE8E86F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2CEB-0A3F-464A-BF90-2C987FEA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ADFB-2314-4267-A554-89746884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3B23-5FF8-4E48-8966-758CE842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8610-09DC-40AD-BFBE-DB1B2D9D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70A8-D036-4544-A94C-8A418947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EC00-986D-4F71-870C-4DC7D59E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FF1-0C46-4FC3-B169-8498B453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9D62-44E7-4C66-B920-3FD84F51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9911-AA75-4E33-9B25-25A8F5F0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5907-9CE9-46A7-91E3-62A4CBBF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82D1-74DE-4F51-9F3A-B6A755F1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E243-17E0-47AA-8894-C23F5849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143-80DD-4B53-B3D1-7EC96C23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E8E2-0C90-400B-B705-DCC54F64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0A51-15D0-4D0A-9CEC-73CDC530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5CE-71C8-4FD1-A269-DCF28276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8F5-0F1B-4109-8665-D337E66F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D98-C6C8-4854-A3FB-49F4193D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BD8-7AE4-498F-8841-AC08530E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B25C-7971-4C93-966A-F34E133AB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8E74-6EA4-4C9B-BB3F-9D7A340B762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2299-08C2-463C-B708-7340C673EF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very Audit Contractors (RACs) and Medicar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Who, What, When, Where, How and Why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bony Brandon, M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 Region A Project Offic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T Gia Lawrence, BSN, 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 Region A Project Offic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C22E-09B9-4E92-ACB8-E5F7FA246A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Providers’ Option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 by chec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recoupment from future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or apply for extended repayment pla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eal-same process for Carrier/FI/MAC denia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f you disagree with the RAC’s determination, don’t stop with the discussion letter, file appeal by Day 120 after Demand Let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l Time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cms.hhs.gov/OrgMedFFSAppeals/Downloads/AppealsprocessflowchartAB.pd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35 MLN Mat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cms.hhs.gov/MLNMattersArticles/downloads/MM6183.pd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6D67-EE0C-48C6-A3D4-C55764CC2D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AC Program’s Three Keys to Succes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ize Provider Burd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Accurac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imize Transparenc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AD14-A07F-48E9-BD7E-4866701101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nimize Provider Burde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 the RAC “look back period” to three ye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um look back date is October 1, 2007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s will accept imaged medical records on CD/DV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 the number of additional documentation request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85EF-AB38-4CB5-A739-B5CFF3DF0E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ummary of Additional Documentation Request Limits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(for FY 2009)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(for other provider limits see CMS website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ians (including podiatrists, chiropractor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e Practitioner: 10 medical records per 45 days per group N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nership 2-5 individuals: 20 medical records per 45 days per group N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up 6-15 individuals: 30 medical records per 45 days per group N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 Group 16+ individuals: 50 medical records per 45 days per group N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Part B Billers (DME, Lab, Outpatient hospital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% of the average monthly Medicare services (max 200) per NPI per 45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CA6A-91D2-4CBD-B622-CC86C0EF6E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sure Accurac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AC employ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ified co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rses and/or Therapis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hysician CM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S’ New Issue Review Board provides greater oversigh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C Validation Contractor provides annual accuracy scores for each RA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RAC loses at any level of appeal, the RAC must return the contingency fe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037D-F43F-4745-9980-BBF8ECADC5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ximize Transparenc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 are posted to the we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 Findings are posted to the we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 claim status website (201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ailed review results letter following all complex re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D0EE-FB89-44A5-A39D-6DA13C187B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35244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New Issue Review Process for </a:t>
            </a: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AUTOMATED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2108160"/>
            <a:ext cx="1752840" cy="161856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sends New Issue Review Reques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C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286000" y="4470480"/>
            <a:ext cx="1523880" cy="131364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S reviews and deci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5"/>
          <p:cNvSpPr/>
          <p:nvPr/>
        </p:nvSpPr>
        <p:spPr>
          <a:xfrm flipV="1">
            <a:off x="10058400" y="517032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657600" y="2108160"/>
            <a:ext cx="2438280" cy="161856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approved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 is posted to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website and RAC may begin widespread re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1" name="AutoShape 7"/>
          <p:cNvCxnSpPr>
            <a:stCxn id="147" idx="2"/>
            <a:endCxn id="148" idx="1"/>
          </p:cNvCxnSpPr>
          <p:nvPr/>
        </p:nvCxnSpPr>
        <p:spPr>
          <a:xfrm flipH="1" rot="16200000">
            <a:off x="1187640" y="4032000"/>
            <a:ext cx="139752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8"/>
          <p:cNvCxnSpPr>
            <a:stCxn id="148" idx="3"/>
            <a:endCxn id="150" idx="2"/>
          </p:cNvCxnSpPr>
          <p:nvPr/>
        </p:nvCxnSpPr>
        <p:spPr>
          <a:xfrm flipV="1">
            <a:off x="3809880" y="3733560"/>
            <a:ext cx="1067760" cy="1397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Text Box 9"/>
          <p:cNvSpPr/>
          <p:nvPr/>
        </p:nvSpPr>
        <p:spPr>
          <a:xfrm>
            <a:off x="6705720" y="1808280"/>
            <a:ext cx="1828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and letters are se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MS has approved the New Issue for Re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4" name="AutoShape 10"/>
          <p:cNvCxnSpPr>
            <a:stCxn id="150" idx="3"/>
            <a:endCxn id="153" idx="1"/>
          </p:cNvCxnSpPr>
          <p:nvPr/>
        </p:nvCxnSpPr>
        <p:spPr>
          <a:xfrm>
            <a:off x="6095880" y="29206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9DFE-116D-4B51-8699-ECCFC69B9A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New Issue Review Process for </a:t>
            </a: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COMPLEX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10058400" y="517032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57200" y="2130480"/>
            <a:ext cx="1676520" cy="1554120"/>
          </a:xfrm>
          <a:prstGeom prst="rect">
            <a:avLst/>
          </a:prstGeom>
          <a:solidFill>
            <a:srgbClr val="ffe6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issu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ed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f additional documentation requests to provider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600200" y="4619520"/>
            <a:ext cx="13716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rs send additional document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590920" y="2790720"/>
            <a:ext cx="1371600" cy="82404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review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al document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495680" y="2424240"/>
            <a:ext cx="990720" cy="179748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sends New Issue Review Reques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C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2" name="AutoShape 8"/>
          <p:cNvCxnSpPr>
            <a:stCxn id="158" idx="2"/>
            <a:endCxn id="159" idx="1"/>
          </p:cNvCxnSpPr>
          <p:nvPr/>
        </p:nvCxnSpPr>
        <p:spPr>
          <a:xfrm flipH="1" rot="16200000">
            <a:off x="779040" y="4215240"/>
            <a:ext cx="133596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AutoShape 9"/>
          <p:cNvCxnSpPr>
            <a:stCxn id="159" idx="3"/>
            <a:endCxn id="160" idx="2"/>
          </p:cNvCxnSpPr>
          <p:nvPr/>
        </p:nvCxnSpPr>
        <p:spPr>
          <a:xfrm flipV="1">
            <a:off x="2971440" y="3620520"/>
            <a:ext cx="305640" cy="1415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AutoShape 10"/>
          <p:cNvCxnSpPr>
            <a:stCxn id="160" idx="3"/>
            <a:endCxn id="161" idx="1"/>
          </p:cNvCxnSpPr>
          <p:nvPr/>
        </p:nvCxnSpPr>
        <p:spPr>
          <a:xfrm>
            <a:off x="3962160" y="3206880"/>
            <a:ext cx="53388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AutoShape 12"/>
          <p:cNvCxnSpPr>
            <a:stCxn id="161" idx="2"/>
            <a:endCxn id="166" idx="1"/>
          </p:cNvCxnSpPr>
          <p:nvPr/>
        </p:nvCxnSpPr>
        <p:spPr>
          <a:xfrm flipH="1" rot="16200000">
            <a:off x="4617000" y="4610520"/>
            <a:ext cx="162468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Text Box 13"/>
          <p:cNvSpPr/>
          <p:nvPr/>
        </p:nvSpPr>
        <p:spPr>
          <a:xfrm>
            <a:off x="5867280" y="5321160"/>
            <a:ext cx="1143000" cy="106740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S reviews and deci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7205760" y="2257560"/>
            <a:ext cx="1252440" cy="204084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approved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 is posted to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website and RAC may begin widespread revie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AutoShape 15"/>
          <p:cNvCxnSpPr>
            <a:stCxn id="166" idx="3"/>
            <a:endCxn id="167" idx="2"/>
          </p:cNvCxnSpPr>
          <p:nvPr/>
        </p:nvCxnSpPr>
        <p:spPr>
          <a:xfrm flipV="1">
            <a:off x="7009920" y="4314240"/>
            <a:ext cx="823320" cy="154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Text Box 16"/>
          <p:cNvSpPr/>
          <p:nvPr/>
        </p:nvSpPr>
        <p:spPr>
          <a:xfrm>
            <a:off x="2117520" y="1892160"/>
            <a:ext cx="162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hese requests a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d in th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r addi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ation limit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7BE5-EED3-46BA-8DE8-729A5BCB8A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e You Ready? Know Where Previous Improper Payments Have Been Found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 to see what improper payments were found by the RA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nstration findings: www.cms.hhs.gov/r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RAC findings: will be listed on the RACs’ websi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 to see what improper payments have been found in OIG and CERT repor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IG reports: www.oig.hhs.gov/reports.as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 reports: www.cms.hhs.gov/ce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8A6A-6EE8-4EC1-B1BB-2D198946F1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Know if you are submitting claims with improper paym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uct an internal assessment to identify if you are in compliance with Medicare r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corrective actions to implement for compli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610E-D5B2-4F61-9E78-80362FAE53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 RAC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the RACs affect m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RAC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es a RAC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providers’ op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3 Keys to RAC program succes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can providers do to get read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5720-2A94-4330-B471-EA000928EA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e to Respond to RAC Additional Documentation Reques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017440"/>
            <a:ext cx="80769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your RAC the precise address and contact person they should use when sending additional documentation request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RA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ater 1/1/2010: use RAC web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necessary, check on the status of your additional documentation (Did the RAC receive it?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RA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ater 1/1/2010: use RAC web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6511-1E7C-459F-8316-58A46B1185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 Website: www.cms.hhs.gov/RA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 Email: RAC@cms.hhs.g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ion A Contacts at CM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bony Brando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(Ebony.Brandon@cms.hhs.go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a Lawrenc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(Gia.Lawrence@cms.hhs.go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70B9-19CF-454C-A968-F55AEFEF1F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BC8A-D992-40AC-A2EF-6CCDD13A32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1371600"/>
            <a:ext cx="9144000" cy="1523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2819520"/>
            <a:ext cx="9144000" cy="1447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4267080"/>
            <a:ext cx="9144000" cy="1524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133720" y="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AC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2238480"/>
            <a:ext cx="1600200" cy="131436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decides whether additional documentation is required to make a determ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495360" y="961920"/>
            <a:ext cx="609480" cy="381240"/>
          </a:xfrm>
          <a:prstGeom prst="rect">
            <a:avLst/>
          </a:prstGeom>
          <a:solidFill>
            <a:srgbClr val="757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457200" y="4533840"/>
            <a:ext cx="685800" cy="381240"/>
          </a:xfrm>
          <a:prstGeom prst="rect">
            <a:avLst/>
          </a:prstGeom>
          <a:solidFill>
            <a:srgbClr val="757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1981080" y="4191120"/>
            <a:ext cx="914400" cy="10666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requests additional documen-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3038400" y="4191120"/>
            <a:ext cx="1524240" cy="10666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r has 45 days plus 10 calendar days mail time to submit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4648320" y="4191120"/>
            <a:ext cx="1295280" cy="10666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has up to 60 days to review additional docu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6048360" y="4191120"/>
            <a:ext cx="1114560" cy="10666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makes a claim determ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7315200" y="3784680"/>
            <a:ext cx="1552680" cy="186696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issu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ew Results Let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oes NOT communicate improper amount or appeal rights including “no findings”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7848720" y="609480"/>
            <a:ext cx="990360" cy="10670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 makes a claim determina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9" name="AutoShape 17"/>
          <p:cNvCxnSpPr>
            <a:stCxn id="192" idx="3"/>
            <a:endCxn id="193" idx="1"/>
          </p:cNvCxnSpPr>
          <p:nvPr/>
        </p:nvCxnSpPr>
        <p:spPr>
          <a:xfrm>
            <a:off x="1143000" y="4723920"/>
            <a:ext cx="838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18"/>
          <p:cNvCxnSpPr>
            <a:stCxn id="193" idx="3"/>
            <a:endCxn id="194" idx="1"/>
          </p:cNvCxnSpPr>
          <p:nvPr/>
        </p:nvCxnSpPr>
        <p:spPr>
          <a:xfrm>
            <a:off x="2895120" y="4723920"/>
            <a:ext cx="143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19"/>
          <p:cNvCxnSpPr>
            <a:stCxn id="194" idx="3"/>
            <a:endCxn id="195" idx="1"/>
          </p:cNvCxnSpPr>
          <p:nvPr/>
        </p:nvCxnSpPr>
        <p:spPr>
          <a:xfrm>
            <a:off x="4562640" y="4723920"/>
            <a:ext cx="86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20"/>
          <p:cNvCxnSpPr>
            <a:stCxn id="195" idx="3"/>
            <a:endCxn id="196" idx="1"/>
          </p:cNvCxnSpPr>
          <p:nvPr/>
        </p:nvCxnSpPr>
        <p:spPr>
          <a:xfrm>
            <a:off x="5943240" y="4723920"/>
            <a:ext cx="105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AutoShape 21"/>
          <p:cNvCxnSpPr>
            <a:stCxn id="196" idx="3"/>
            <a:endCxn id="197" idx="1"/>
          </p:cNvCxnSpPr>
          <p:nvPr/>
        </p:nvCxnSpPr>
        <p:spPr>
          <a:xfrm flipV="1">
            <a:off x="7162560" y="4717440"/>
            <a:ext cx="1530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22"/>
          <p:cNvCxnSpPr>
            <a:stCxn id="190" idx="0"/>
            <a:endCxn id="191" idx="2"/>
          </p:cNvCxnSpPr>
          <p:nvPr/>
        </p:nvCxnSpPr>
        <p:spPr>
          <a:xfrm flipV="1">
            <a:off x="799920" y="1342440"/>
            <a:ext cx="1080" cy="89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23"/>
          <p:cNvCxnSpPr>
            <a:stCxn id="190" idx="2"/>
            <a:endCxn id="192" idx="0"/>
          </p:cNvCxnSpPr>
          <p:nvPr/>
        </p:nvCxnSpPr>
        <p:spPr>
          <a:xfrm flipH="1">
            <a:off x="799560" y="3552480"/>
            <a:ext cx="108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24"/>
          <p:cNvCxnSpPr>
            <a:stCxn id="191" idx="3"/>
            <a:endCxn id="198" idx="1"/>
          </p:cNvCxnSpPr>
          <p:nvPr/>
        </p:nvCxnSpPr>
        <p:spPr>
          <a:xfrm flipV="1">
            <a:off x="1104480" y="1142640"/>
            <a:ext cx="674460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25"/>
          <p:cNvSpPr/>
          <p:nvPr/>
        </p:nvSpPr>
        <p:spPr>
          <a:xfrm>
            <a:off x="1295280" y="4394160"/>
            <a:ext cx="638280" cy="228600"/>
          </a:xfrm>
          <a:prstGeom prst="rect">
            <a:avLst/>
          </a:prstGeom>
          <a:solidFill>
            <a:srgbClr val="ffe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26"/>
          <p:cNvSpPr/>
          <p:nvPr/>
        </p:nvSpPr>
        <p:spPr>
          <a:xfrm>
            <a:off x="1352520" y="4800600"/>
            <a:ext cx="533520" cy="228600"/>
          </a:xfrm>
          <a:prstGeom prst="rect">
            <a:avLst/>
          </a:prstGeom>
          <a:solidFill>
            <a:srgbClr val="ffe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27"/>
          <p:cNvSpPr/>
          <p:nvPr/>
        </p:nvSpPr>
        <p:spPr>
          <a:xfrm>
            <a:off x="1409760" y="838080"/>
            <a:ext cx="723960" cy="228600"/>
          </a:xfrm>
          <a:prstGeom prst="rect">
            <a:avLst/>
          </a:prstGeom>
          <a:solidFill>
            <a:srgbClr val="ffe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28"/>
          <p:cNvSpPr/>
          <p:nvPr/>
        </p:nvSpPr>
        <p:spPr>
          <a:xfrm>
            <a:off x="1476360" y="1270080"/>
            <a:ext cx="533520" cy="228600"/>
          </a:xfrm>
          <a:prstGeom prst="rect">
            <a:avLst/>
          </a:prstGeom>
          <a:solidFill>
            <a:srgbClr val="ffe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29"/>
          <p:cNvSpPr/>
          <p:nvPr/>
        </p:nvSpPr>
        <p:spPr>
          <a:xfrm>
            <a:off x="883908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AutoShape 30"/>
          <p:cNvSpPr/>
          <p:nvPr/>
        </p:nvSpPr>
        <p:spPr>
          <a:xfrm>
            <a:off x="7750080" y="5943600"/>
            <a:ext cx="685800" cy="6858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f n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3" name="AutoShape 31"/>
          <p:cNvCxnSpPr>
            <a:stCxn id="197" idx="2"/>
            <a:endCxn id="212" idx="2"/>
          </p:cNvCxnSpPr>
          <p:nvPr/>
        </p:nvCxnSpPr>
        <p:spPr>
          <a:xfrm>
            <a:off x="8091000" y="5651280"/>
            <a:ext cx="252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32"/>
          <p:cNvCxnSpPr/>
          <p:nvPr/>
        </p:nvCxnSpPr>
        <p:spPr>
          <a:xfrm flipV="1">
            <a:off x="8867520" y="3199680"/>
            <a:ext cx="276840" cy="1181880"/>
          </a:xfrm>
          <a:prstGeom prst="bentConnector3">
            <a:avLst>
              <a:gd name="adj1" fmla="val 550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8432-9405-44BC-8FAF-FA2EC58B99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2F94-BAF7-417B-A135-8CCE653282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1371600"/>
            <a:ext cx="9144000" cy="1523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0" y="2819520"/>
            <a:ext cx="9144000" cy="1447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4267080"/>
            <a:ext cx="9144000" cy="1524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0880" y="2438280"/>
            <a:ext cx="1219320" cy="15242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AC sends claim info to  Carrier/FI/MAC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2133720" y="2438280"/>
            <a:ext cx="1371600" cy="15242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/FI/MAC adjusts &amp; issu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itt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to provid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“N432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6477120" y="2514600"/>
            <a:ext cx="1904760" cy="14479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Day 41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/FI/MAC  recou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offs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5" name="AutoShape 10"/>
          <p:cNvCxnSpPr/>
          <p:nvPr/>
        </p:nvCxnSpPr>
        <p:spPr>
          <a:xfrm>
            <a:off x="1600200" y="326340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1"/>
          <p:cNvCxnSpPr>
            <a:endCxn id="222" idx="0"/>
          </p:cNvCxnSpPr>
          <p:nvPr/>
        </p:nvCxnSpPr>
        <p:spPr>
          <a:xfrm>
            <a:off x="-533520" y="1095480"/>
            <a:ext cx="1524960" cy="1343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AutoShape 12"/>
          <p:cNvSpPr/>
          <p:nvPr/>
        </p:nvSpPr>
        <p:spPr>
          <a:xfrm rot="16200000">
            <a:off x="5753160" y="647640"/>
            <a:ext cx="533520" cy="1828800"/>
          </a:xfrm>
          <a:prstGeom prst="upDownArrow">
            <a:avLst>
              <a:gd name="adj1" fmla="val 64287"/>
              <a:gd name="adj2" fmla="val 73523"/>
            </a:avLst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e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ussion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8" name="AutoShape 13"/>
          <p:cNvCxnSpPr>
            <a:endCxn id="222" idx="1"/>
          </p:cNvCxnSpPr>
          <p:nvPr/>
        </p:nvCxnSpPr>
        <p:spPr>
          <a:xfrm flipH="1" flipV="1" rot="5400000">
            <a:off x="-248040" y="3447720"/>
            <a:ext cx="87696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AutoShape 14"/>
          <p:cNvSpPr/>
          <p:nvPr/>
        </p:nvSpPr>
        <p:spPr>
          <a:xfrm rot="16200000">
            <a:off x="2781360" y="2528640"/>
            <a:ext cx="1143000" cy="6095880"/>
          </a:xfrm>
          <a:prstGeom prst="upDownArrow">
            <a:avLst>
              <a:gd name="adj1" fmla="val 39593"/>
              <a:gd name="adj2" fmla="val 78739"/>
            </a:avLst>
          </a:prstGeom>
          <a:solidFill>
            <a:srgbClr val="757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Review Discussion Perio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4025880" y="2438280"/>
            <a:ext cx="1828800" cy="15242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1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issu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emand Let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ncludes amount and appeal righ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3505320" y="3276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58672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4D59-F70B-46CF-B92A-EDC9F4C1E0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RAC?</a:t>
            </a:r>
            <a:br>
              <a:rPr sz="44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RAC Program Mission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ACs detect and corre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as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oper payments so that CMS and Carriers, FIs, and MACs can implement actions that will prev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u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mproper paym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vi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avoid submitting claims that do not comply with Medicare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M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lower its error r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xpay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future Medicare beneficiaries are protec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E0DB-86EC-48FF-B321-37C10F1E39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ll the RACs affect m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es, if you bill fee-for-service programs, your claims will be subject to review by the RA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claims are eligible for RAC review currently so providers can start to receive correspondence 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B6A1-1845-4E17-A24D-1DBDF4053D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do we have RACs?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op Federal Programs with Improper Payments 2008 (Billion Dollar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Chart 35" descr=""/>
          <p:cNvPicPr/>
          <p:nvPr/>
        </p:nvPicPr>
        <p:blipFill>
          <a:blip r:embed="rId1"/>
          <a:stretch/>
        </p:blipFill>
        <p:spPr>
          <a:xfrm>
            <a:off x="-12600" y="1901880"/>
            <a:ext cx="91692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D230-6CAE-4C0F-AB20-5F4923E6CC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C Legisl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re Modernization Act, Section 306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d the 3-year RAC demon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x Relief and Healthcare Act of 2006, Section 30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 permanent and nationwide RAC program by January 1, 2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of these statutes gave CMS the authority to pay the RACs on a contingency fee ba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C9BC-A687-4F03-904F-00B68DCAB5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oes a RAC do?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AC Review Proces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s review claims on a post-payment bas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s use the same Medicare policies as Carriers, FIs and MA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CDs, LCDs, CMS Manual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ypes of revie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ed (no medical record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(medical record require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s will not be able to review claims paid prior to October 1, 200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s will be able to look back three years from the date the claim was pai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s are required to employ a staff consisting of nurses or therapists, certified coders, and a physician CM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DDED-EAA6-48B6-91A9-4EBAFA9CE2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ollection Proces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e as for Carrier, FI and MAC identified overpaym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riers, FIs and MACs issue Remittance Advi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ark Code N432: “Adjustment Based on Recovery Audit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, FI, MAC recoups by offset unless provider has submitted a check or a valid appe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BBDD-A89A-4AC1-9411-CB51456ADB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differe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and letter is issued by the RA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C will offer an opportunity for the provider to discuss the improper payment determination with the RAC (this is outside the normal appeal process &amp; is known as the RAC discussion period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s reviewed by the RAC will be approved by CMS prior to widespread review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ved issues will be posted to a RAC website before widespread review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41:08Z</dcterms:created>
  <dc:creator>CMS</dc:creator>
  <dc:description/>
  <dc:language>en-US</dc:language>
  <cp:lastModifiedBy>Frank Fortin</cp:lastModifiedBy>
  <dcterms:modified xsi:type="dcterms:W3CDTF">2009-10-21T14:39:49Z</dcterms:modified>
  <cp:revision>51</cp:revision>
  <dc:subject/>
  <dc:title>Slide 1</dc:title>
</cp:coreProperties>
</file>