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EEC-1544-4D50-B074-6CF85927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21B-683C-4766-9F8B-7A83500E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AEC-A387-4EAA-A854-94ED9B7E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B9E-CFD2-4322-BF09-FD35E262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45D7-9B28-430E-B90A-A5D6547E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EBB4-1195-42FB-85B2-4D0982ED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A142-F3AC-4F37-9DC5-51045577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51CF-1524-4553-9AE4-0C57707C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046B-BBED-47A4-A828-F4674658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3D0F-1769-40C7-B80A-32B5F259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E361-6D66-4686-8616-08FD1279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555-5691-4556-A70F-5BE71EAD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66FC-4B38-419B-9019-DB2F247D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C3DD-0882-46FB-B7BB-23325E2E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4904-8883-4089-ACF3-6096C9E2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247E-A755-41DD-811A-BEB90214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15FD-E21A-4FE3-9D2C-16FE8F89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557-A1D2-4725-8523-ABA4A661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FC4-97F5-47CB-A59F-41436C0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DE4-DB7D-42FF-A4B9-F7EC09D4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0D8-08F5-45B1-9830-256C99C0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A3A-8C68-4431-8EC8-ABF9E37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3EE-FF1E-4732-A895-750F758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7C0-B56C-4DD8-9CEA-0C25CB9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B3DF-F7C8-43EE-9212-C4B00FAE4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BBAE-7D29-486E-A536-84D40C00F4F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EDFD-B62B-4AA3-9D93-3139CE28BB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very Audit Contractors (RACs) and Medica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ho, What, When, Where, How and Why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bony Brandon, M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 Region A Project Offi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T Gia Lawrence, BSN, 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 Region A Project Offi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49C0-EF90-4EAF-8BFC-3E0D98B43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Providers’ Option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 by chec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recoupment from futur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or apply for extended repayment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al-same process for Carrier/FI/MAC denia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f you disagree with the RAC’s determination, don’t stop with the discussion letter, file appeal by Day 120 after Demand L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l Time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ms.hhs.gov/OrgMedFFSAppeals/Downloads/AppealsprocessflowchartAB.pd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35 MLN Ma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ms.hhs.gov/MLNMattersArticles/downloads/MM6183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50FF-34C6-46D2-9732-855B4F336E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AC Program’s Three Keys to Succes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e Provider Burd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Accura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ize Transpare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8C0C-D368-4CE1-BB23-4C6BA25FEB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ize Provider Burd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 the RAC “look back period” to three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um look back date is October 1, 200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s will accept imaged medical records on CD/DV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 the number of additional documentation request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1B3C-8869-488B-8012-5061D531DB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mmary of Additional Documentation Request Limits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for FY 2009)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for other provider limits see CMS website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(including podiatrists, chiropractor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e Practitioner: 1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ship 2-5 individuals: 2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 6-15 individuals: 3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Group 16+ individuals: 5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art B Billers (DME, Lab, Outpatient hospital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% of the average monthly Medicare services (max 200) per NPI per 45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6B81-3393-42D1-AB1D-21D420977B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sure Accurac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AC employ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ed co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ses and/or Therap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hysician C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S’ New Issue Review Board provides greater overs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 Validation Contractor provides annual accuracy scores for each RA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RAC loses at any level of appeal, the RAC must return the contingency fe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461A-355A-458F-BFB8-16095B1B03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imize Transparenc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 are posted to the 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Findings are posted to the 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claim status website (20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ed review results letter following all complex re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9123-4CA3-4D18-AD61-E5711F94CF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35244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New Issue Review Process for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AUTOMATED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2108160"/>
            <a:ext cx="1752840" cy="161856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sends New Issue Review Reque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0" y="4470480"/>
            <a:ext cx="1523880" cy="131364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S reviews and deci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10058400" y="5170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657600" y="2108160"/>
            <a:ext cx="2438280" cy="161856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pproved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is posted to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website and RAC may begin widespread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" name="AutoShape 7"/>
          <p:cNvCxnSpPr>
            <a:stCxn id="147" idx="2"/>
            <a:endCxn id="148" idx="1"/>
          </p:cNvCxnSpPr>
          <p:nvPr/>
        </p:nvCxnSpPr>
        <p:spPr>
          <a:xfrm flipH="1" rot="16200000">
            <a:off x="1187640" y="4032000"/>
            <a:ext cx="13975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8"/>
          <p:cNvCxnSpPr>
            <a:stCxn id="148" idx="3"/>
            <a:endCxn id="150" idx="2"/>
          </p:cNvCxnSpPr>
          <p:nvPr/>
        </p:nvCxnSpPr>
        <p:spPr>
          <a:xfrm flipV="1">
            <a:off x="3809880" y="3733560"/>
            <a:ext cx="1067760" cy="1397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Text Box 9"/>
          <p:cNvSpPr/>
          <p:nvPr/>
        </p:nvSpPr>
        <p:spPr>
          <a:xfrm>
            <a:off x="6705720" y="1808280"/>
            <a:ext cx="182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and letters are s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MS has approved the New Issue for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4" name="AutoShape 10"/>
          <p:cNvCxnSpPr>
            <a:stCxn id="150" idx="3"/>
            <a:endCxn id="153" idx="1"/>
          </p:cNvCxnSpPr>
          <p:nvPr/>
        </p:nvCxnSpPr>
        <p:spPr>
          <a:xfrm>
            <a:off x="6095880" y="29206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311-5FED-4467-8A26-33A5FFEAE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New Issue Review Process for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OMPLE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10058400" y="5170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57200" y="2130480"/>
            <a:ext cx="1676520" cy="1554120"/>
          </a:xfrm>
          <a:prstGeom prst="rect">
            <a:avLst/>
          </a:prstGeom>
          <a:solidFill>
            <a:srgbClr val="ffe6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issu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ed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additional documentation requests to provider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00200" y="4619520"/>
            <a:ext cx="1371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s send additional 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90920" y="2790720"/>
            <a:ext cx="1371600" cy="82404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re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495680" y="2424240"/>
            <a:ext cx="990720" cy="179748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sends New Issue Review Reque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2" name="AutoShape 8"/>
          <p:cNvCxnSpPr>
            <a:stCxn id="158" idx="2"/>
            <a:endCxn id="159" idx="1"/>
          </p:cNvCxnSpPr>
          <p:nvPr/>
        </p:nvCxnSpPr>
        <p:spPr>
          <a:xfrm flipH="1" rot="16200000">
            <a:off x="779040" y="4215240"/>
            <a:ext cx="133596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9"/>
          <p:cNvCxnSpPr>
            <a:stCxn id="159" idx="3"/>
            <a:endCxn id="160" idx="2"/>
          </p:cNvCxnSpPr>
          <p:nvPr/>
        </p:nvCxnSpPr>
        <p:spPr>
          <a:xfrm flipV="1">
            <a:off x="2971440" y="3620520"/>
            <a:ext cx="305640" cy="1415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0"/>
          <p:cNvCxnSpPr>
            <a:stCxn id="160" idx="3"/>
            <a:endCxn id="161" idx="1"/>
          </p:cNvCxnSpPr>
          <p:nvPr/>
        </p:nvCxnSpPr>
        <p:spPr>
          <a:xfrm>
            <a:off x="3962160" y="3206880"/>
            <a:ext cx="5338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2"/>
          <p:cNvCxnSpPr>
            <a:stCxn id="161" idx="2"/>
            <a:endCxn id="166" idx="1"/>
          </p:cNvCxnSpPr>
          <p:nvPr/>
        </p:nvCxnSpPr>
        <p:spPr>
          <a:xfrm flipH="1" rot="16200000">
            <a:off x="4617000" y="4610520"/>
            <a:ext cx="162468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Text Box 13"/>
          <p:cNvSpPr/>
          <p:nvPr/>
        </p:nvSpPr>
        <p:spPr>
          <a:xfrm>
            <a:off x="5867280" y="5321160"/>
            <a:ext cx="1143000" cy="106740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S reviews and deci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7205760" y="2257560"/>
            <a:ext cx="1252440" cy="204084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pproved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is posted to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website and RAC may begin widespread revi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AutoShape 15"/>
          <p:cNvCxnSpPr>
            <a:stCxn id="166" idx="3"/>
            <a:endCxn id="167" idx="2"/>
          </p:cNvCxnSpPr>
          <p:nvPr/>
        </p:nvCxnSpPr>
        <p:spPr>
          <a:xfrm flipV="1">
            <a:off x="7009920" y="4314240"/>
            <a:ext cx="82332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 Box 16"/>
          <p:cNvSpPr/>
          <p:nvPr/>
        </p:nvSpPr>
        <p:spPr>
          <a:xfrm>
            <a:off x="2117520" y="1892160"/>
            <a:ext cx="162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hese requests 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d in th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 addi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limi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ED49-42B0-45F4-A0AC-E61CAFE50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e You Ready? Know Where Previous Improper Payments Have Been Found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to see what improper payments were found by the RA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ion findings: www.cms.hhs.gov/r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RAC findings: will be listed on the RACs’ websi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to see what improper payments have been found in OIG and CERT re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IG reports: www.oig.hhs.gov/reports.as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 reports: www.cms.hhs.gov/ce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7512-DD1E-4981-938E-2090521BBC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now if you are submitting claims with improper pay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 an internal assessment to identify if you are in compliance with Medicare r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corrective actions to implement for compli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42AF-C965-41E4-AEE1-CF0BE84CFB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RA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the RACs affect 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RA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a RAC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providers’ op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3 Keys to RAC program succ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providers do to get read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FDC-C1C5-4C00-ACE0-46D49CD8C5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e to Respond to RAC Additional Documentation Reque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17440"/>
            <a:ext cx="8076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your RAC the precise address and contact person they should use when sending additional documentation request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RA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ater 1/1/2010: use RAC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necessary, check on the status of your additional documentation (Did the RAC receive it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RA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ater 1/1/2010: use RAC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AAF9-A2DA-477B-9A33-D7E5F2C38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Website: www.cms.hhs.gov/R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Email: RAC@cms.hhs.g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on A Contacts at CM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bony Brand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Ebony.Brandon@cms.hhs.g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a Lawrenc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Gia.Lawrence@cms.hhs.g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ED61-C12A-45EB-9637-412E98FE5C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BA3-A39F-4DE5-90E1-C6D41CFCC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371600"/>
            <a:ext cx="91440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2819520"/>
            <a:ext cx="9144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4267080"/>
            <a:ext cx="9144000" cy="1524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133720" y="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AC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2238480"/>
            <a:ext cx="1600200" cy="13143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decides whether additional documentation is required to make a determ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495360" y="961920"/>
            <a:ext cx="609480" cy="381240"/>
          </a:xfrm>
          <a:prstGeom prst="rect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7200" y="4533840"/>
            <a:ext cx="685800" cy="381240"/>
          </a:xfrm>
          <a:prstGeom prst="rect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1981080" y="4191120"/>
            <a:ext cx="91440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requests additional documen-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038400" y="4191120"/>
            <a:ext cx="152424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r has 45 days plus 10 calendar days mail time to submit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4648320" y="4191120"/>
            <a:ext cx="129528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has up to 60 days to review additional docu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048360" y="4191120"/>
            <a:ext cx="111456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makes a claim determ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7315200" y="3784680"/>
            <a:ext cx="1552680" cy="18669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issu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 Results Le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es NOT communicate improper amount or appeal rights including “no findings”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7848720" y="609480"/>
            <a:ext cx="990360" cy="1067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 makes a claim determin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9" name="AutoShape 17"/>
          <p:cNvCxnSpPr>
            <a:stCxn id="192" idx="3"/>
            <a:endCxn id="193" idx="1"/>
          </p:cNvCxnSpPr>
          <p:nvPr/>
        </p:nvCxnSpPr>
        <p:spPr>
          <a:xfrm>
            <a:off x="1143000" y="47239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18"/>
          <p:cNvCxnSpPr>
            <a:stCxn id="193" idx="3"/>
            <a:endCxn id="194" idx="1"/>
          </p:cNvCxnSpPr>
          <p:nvPr/>
        </p:nvCxnSpPr>
        <p:spPr>
          <a:xfrm>
            <a:off x="2895120" y="472392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19"/>
          <p:cNvCxnSpPr>
            <a:stCxn id="194" idx="3"/>
            <a:endCxn id="195" idx="1"/>
          </p:cNvCxnSpPr>
          <p:nvPr/>
        </p:nvCxnSpPr>
        <p:spPr>
          <a:xfrm>
            <a:off x="4562640" y="4723920"/>
            <a:ext cx="86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20"/>
          <p:cNvCxnSpPr>
            <a:stCxn id="195" idx="3"/>
            <a:endCxn id="196" idx="1"/>
          </p:cNvCxnSpPr>
          <p:nvPr/>
        </p:nvCxnSpPr>
        <p:spPr>
          <a:xfrm>
            <a:off x="5943240" y="4723920"/>
            <a:ext cx="105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21"/>
          <p:cNvCxnSpPr>
            <a:stCxn id="196" idx="3"/>
            <a:endCxn id="197" idx="1"/>
          </p:cNvCxnSpPr>
          <p:nvPr/>
        </p:nvCxnSpPr>
        <p:spPr>
          <a:xfrm flipV="1">
            <a:off x="7162560" y="4717440"/>
            <a:ext cx="1530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22"/>
          <p:cNvCxnSpPr>
            <a:stCxn id="190" idx="0"/>
            <a:endCxn id="191" idx="2"/>
          </p:cNvCxnSpPr>
          <p:nvPr/>
        </p:nvCxnSpPr>
        <p:spPr>
          <a:xfrm flipV="1">
            <a:off x="799920" y="1342440"/>
            <a:ext cx="108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23"/>
          <p:cNvCxnSpPr>
            <a:stCxn id="190" idx="2"/>
            <a:endCxn id="192" idx="0"/>
          </p:cNvCxnSpPr>
          <p:nvPr/>
        </p:nvCxnSpPr>
        <p:spPr>
          <a:xfrm flipH="1">
            <a:off x="799560" y="355248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24"/>
          <p:cNvCxnSpPr>
            <a:stCxn id="191" idx="3"/>
            <a:endCxn id="198" idx="1"/>
          </p:cNvCxnSpPr>
          <p:nvPr/>
        </p:nvCxnSpPr>
        <p:spPr>
          <a:xfrm flipV="1">
            <a:off x="1104480" y="1142640"/>
            <a:ext cx="674460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25"/>
          <p:cNvSpPr/>
          <p:nvPr/>
        </p:nvSpPr>
        <p:spPr>
          <a:xfrm>
            <a:off x="1295280" y="4394160"/>
            <a:ext cx="63828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1352520" y="4800600"/>
            <a:ext cx="53352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1409760" y="838080"/>
            <a:ext cx="72396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1476360" y="1270080"/>
            <a:ext cx="53352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88390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30"/>
          <p:cNvSpPr/>
          <p:nvPr/>
        </p:nvSpPr>
        <p:spPr>
          <a:xfrm>
            <a:off x="7750080" y="5943600"/>
            <a:ext cx="685800" cy="6858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f 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3" name="AutoShape 31"/>
          <p:cNvCxnSpPr>
            <a:stCxn id="197" idx="2"/>
            <a:endCxn id="212" idx="2"/>
          </p:cNvCxnSpPr>
          <p:nvPr/>
        </p:nvCxnSpPr>
        <p:spPr>
          <a:xfrm>
            <a:off x="8091000" y="5651280"/>
            <a:ext cx="25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32"/>
          <p:cNvCxnSpPr/>
          <p:nvPr/>
        </p:nvCxnSpPr>
        <p:spPr>
          <a:xfrm flipV="1">
            <a:off x="8867520" y="3199680"/>
            <a:ext cx="276840" cy="1181880"/>
          </a:xfrm>
          <a:prstGeom prst="bentConnector3">
            <a:avLst>
              <a:gd name="adj1" fmla="val 550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5934-63B6-4315-982E-E7426E5211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8DA3-9976-4F62-91D4-4D46AB331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1371600"/>
            <a:ext cx="91440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2819520"/>
            <a:ext cx="9144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4267080"/>
            <a:ext cx="9144000" cy="1524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0880" y="2438280"/>
            <a:ext cx="121932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AC sends claim info to  Carrier/FI/MAC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133720" y="2438280"/>
            <a:ext cx="137160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/FI/MAC adjusts &amp; issu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itt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o provid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“N432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6477120" y="2514600"/>
            <a:ext cx="1904760" cy="14479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Day 41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/FI/MAC  rec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offs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5" name="AutoShape 10"/>
          <p:cNvCxnSpPr/>
          <p:nvPr/>
        </p:nvCxnSpPr>
        <p:spPr>
          <a:xfrm>
            <a:off x="1600200" y="32634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1"/>
          <p:cNvCxnSpPr>
            <a:endCxn id="222" idx="0"/>
          </p:cNvCxnSpPr>
          <p:nvPr/>
        </p:nvCxnSpPr>
        <p:spPr>
          <a:xfrm>
            <a:off x="-533520" y="1095480"/>
            <a:ext cx="1524960" cy="134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AutoShape 12"/>
          <p:cNvSpPr/>
          <p:nvPr/>
        </p:nvSpPr>
        <p:spPr>
          <a:xfrm rot="16200000">
            <a:off x="5753160" y="647640"/>
            <a:ext cx="533520" cy="1828800"/>
          </a:xfrm>
          <a:prstGeom prst="upDownArrow">
            <a:avLst>
              <a:gd name="adj1" fmla="val 64287"/>
              <a:gd name="adj2" fmla="val 73523"/>
            </a:avLst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8" name="AutoShape 13"/>
          <p:cNvCxnSpPr>
            <a:endCxn id="222" idx="1"/>
          </p:cNvCxnSpPr>
          <p:nvPr/>
        </p:nvCxnSpPr>
        <p:spPr>
          <a:xfrm flipH="1" flipV="1" rot="5400000">
            <a:off x="-248040" y="3447720"/>
            <a:ext cx="87696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AutoShape 14"/>
          <p:cNvSpPr/>
          <p:nvPr/>
        </p:nvSpPr>
        <p:spPr>
          <a:xfrm rot="16200000">
            <a:off x="2781360" y="2528640"/>
            <a:ext cx="1143000" cy="6095880"/>
          </a:xfrm>
          <a:prstGeom prst="upDownArrow">
            <a:avLst>
              <a:gd name="adj1" fmla="val 39593"/>
              <a:gd name="adj2" fmla="val 78739"/>
            </a:avLst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Review Discussion Perio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4025880" y="2438280"/>
            <a:ext cx="182880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issu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mand Let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cludes amount and appeal righ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3505320" y="3276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05F-A527-4873-AC41-4400ACF813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RAC?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RAC Program Miss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ACs detect and corr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s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per payments so that CMS and Carriers, FIs, and MACs can implement actions that will prev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mproper pay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vi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avoid submitting claims that do not comply with Medicar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lower its error r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xpay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future Medicare beneficiaries are protec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F3DB-F5FF-4550-ACD5-040246AE8A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ll the RACs affect m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if you bill fee-for-service programs, your claims will be subject to review by the RA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laims are eligible for RAC review currently so providers can start to receive correspondence 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A532-C14F-47CF-944E-2B24742C22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we have RACs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p Federal Programs with Improper Payments 2008 (Billion Dollar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Chart 35" descr=""/>
          <p:cNvPicPr/>
          <p:nvPr/>
        </p:nvPicPr>
        <p:blipFill>
          <a:blip r:embed="rId1"/>
          <a:stretch/>
        </p:blipFill>
        <p:spPr>
          <a:xfrm>
            <a:off x="-12600" y="1901880"/>
            <a:ext cx="9169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DE6-0EDF-4211-B77D-DAF570CF0D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C Legisl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re Modernization Act, Section 30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the 3-year RAC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 Relief and Healthcare Act of 2006, Section 3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 permanent and nationwide RAC program by January 1,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of these statutes gave CMS the authority to pay the RACs on a contingency fee b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565B-5AFD-4744-B2C6-2E148C344B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es a RAC do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C Review Proces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review claims on a post-payment ba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use the same Medicare policies as Carriers, FIs and MA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CDs, LCDs, CMS Manu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 of revie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(no medical record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(medical record require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will not be able to review claims paid prior to October 1, 200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s will be able to look back three years from the date the claim was pai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are required to employ a staff consisting of nurses or therapists, certified coders, and a physician C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BD5-27B4-457A-81C4-2F8F685350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llection Proce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as for Carrier, FI and MAC identified overpay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s, FIs and MACs issue Remittance Adv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ark Code N432: “Adjustment Based on Recovery Audit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, FI, MAC recoups by offset unless provider has submitted a check or a valid appe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EF69-AB08-4C32-B5B3-72321E2065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differ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 letter is issued by the R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 will offer an opportunity for the provider to discuss the improper payment determination with the RAC (this is outside the normal appeal process &amp; is known as the RAC discussion perio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s reviewed by the RAC will be approved by CMS prior to widespread review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ved issues will be posted to a RAC website before widespread review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41:08Z</dcterms:created>
  <dc:creator>CMS</dc:creator>
  <dc:description/>
  <dc:language>en-US</dc:language>
  <cp:lastModifiedBy>Frank Fortin</cp:lastModifiedBy>
  <dcterms:modified xsi:type="dcterms:W3CDTF">2009-10-21T14:39:49Z</dcterms:modified>
  <cp:revision>51</cp:revision>
  <dc:subject/>
  <dc:title>Slide 1</dc:title>
</cp:coreProperties>
</file>