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D7D88A-8547-4D58-AA75-512A7AB12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7EEE8C-064D-4EE4-BA2A-0B53559C0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7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1BB4-9E18-49F3-A8E7-754D77C8B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5752-8CC0-4ED6-A87D-8C89526EC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A22B-8DF8-4A2F-BC64-1027B2809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D161-8F9C-485B-99D0-A580BDF989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3CAB-3C76-4BDF-A6B7-CC70391CFF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B964-65C5-4C26-B054-F6D34AD99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E012-2709-459C-BE72-C5FE97BF7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BD74-EC56-4005-B086-55CDAAF08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9858-974F-474E-AF51-CCBD5B489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EE5D-DCD1-4576-8B51-581C6ACA4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D15E-880E-40A6-A68F-727A851D4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A8FC-A89C-4D6F-A675-3E2DE6DC5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1520" y="6467400"/>
            <a:ext cx="1951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MS - DCS RAC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47b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929360" y="653868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32B8-6F3B-4ADC-9DC3-1C3028F884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MRAS_RegionA@prgx.com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387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88960"/>
            <a:ext cx="9144000" cy="1559160"/>
          </a:xfrm>
          <a:prstGeom prst="rect">
            <a:avLst/>
          </a:prstGeom>
          <a:solidFill>
            <a:srgbClr val="387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CS, a Performant Compa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very Audit Contractor (RA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r Outreach Presentatio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58160" y="727200"/>
            <a:ext cx="1535040" cy="633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035160"/>
            <a:ext cx="9144000" cy="382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4169-1450-4B91-A3E0-E3000D15AB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Process for Au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185840"/>
            <a:ext cx="836784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Establish a primary point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93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ontact the RAC to update you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93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Use on-line web-site to register and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Respond to additional documentation request within 4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93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If you can’t meet the timeline, please contact our Provider Service department &amp; request an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If a findings letter is issued, please utilize the ‘discussion perio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ommunication is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F60E-4FD3-4EA6-8092-5D05D3CE04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Process for Au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371600"/>
            <a:ext cx="8215200" cy="29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Medical Record submission methods /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Paper record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D / DVD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*  Ensure mailed media is sent in a tamper-evident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F0B0-0EA0-48DF-9FBD-260303DA9F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Contact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8960" y="1600200"/>
            <a:ext cx="882504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34272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oints of contact for MAC Region J1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all Center: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877-677-42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Email: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MRASRegionA@prgx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Fax:               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866-340-06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Website address: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www.DCSRA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CEF6-D2B1-431B-A226-3B6CD7DD59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Q &amp;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2844720" cy="357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946C-9B25-46CD-8433-1DE454B5BE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Today’s 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8960" y="1523880"/>
            <a:ext cx="7391520" cy="26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CS/PRG Corporate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Staff Cred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ocesses for Review &amp;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ontact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Questions &amp;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15E6-7C9A-434C-AE45-AED9731A71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8088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Key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8960" y="1523880"/>
            <a:ext cx="882504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avid Yim, Vice President, Project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atherine Till, RAC Project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avid Wyatt, Vice President Health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r. Earl Berman, RAC Medical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1299-9543-4281-BB00-13BBDE4FA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DCS (Diversified Collection Services)</a:t>
            </a:r>
            <a:endParaRPr b="0" lang="en-US" sz="26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DCS is a subsidiary of Performant Financial Corporation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Over 33 years experience providing service to large government agencies and private companies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Services and products include: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lvl="1" marL="800280" indent="-266760">
              <a:spcBef>
                <a:spcPts val="499"/>
              </a:spcBef>
              <a:buClr>
                <a:srgbClr val="0047b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7b6"/>
                </a:solidFill>
                <a:latin typeface="Arial"/>
              </a:rPr>
              <a:t>Technology platform, portfolio management, improving operational efficiency, revenue optimization and risk managemen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Strategic relationships that are built on improving revenue, process improvements and value-partnerships in a highly regulated, security sensitive environment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DCS is the Prime Contractor for Region A and is responsible for all RAC activities.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PRG-Schultz will be working as a subcontractor to DCS to support the audit activities.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C07A-1F87-4A6C-8EE7-49A3BF5D03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DCS’ Experience</a:t>
            </a:r>
            <a:endParaRPr b="0" lang="en-US" sz="26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MS MSP RAC Demonstration (California) 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MS Recovery of Medicare Beneficiary Prescription Drug Benefit Premium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U.S. Department of the Treasury (MSP &amp; Non-MSP debts)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U. S. Department of Education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State taxing authorities 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Federally chartered state student loan guarantee agencies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A2D4-F483-4F6E-AF74-D92C2E961B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PRG-Schultz Corporate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8960" y="1600200"/>
            <a:ext cx="813924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G is subcontracting in Region A, supporting DCS in RAC audit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G has 12 years of Healthcare auditing industry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Healthcare Clients include Medicare, Medicaid &amp;  Commercial Pay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RAC Demonstration participation in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B79D-7AD0-4C72-91A6-3F10D1A555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45720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Staff Credent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8960" y="1447920"/>
            <a:ext cx="829152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22860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Experienced healthcare auditing operations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44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Physicians / Medical Directors providing audit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44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Registered Nurses / Certified Coders performing all claims &amp; service au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44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Experienced and knowledgeable Provider Services call center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884F-6825-459C-AA2A-806C2BC574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45720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Medical Director Responsi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960" y="1143000"/>
            <a:ext cx="82155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Understanding of NCD/LCD &amp; Medicare policies – providing clinical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RAC issues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Staff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Quality Assurance &amp;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Keeping abreast of current medical practice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Applying clinical expertise to possible effects on improper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ovider Outreach &amp; discussion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209B-8386-4F83-A21E-A043E794FB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Process for Au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185840"/>
            <a:ext cx="829152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imary types of aud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39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omplex – includes additional documentation request &amp; audit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39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Automated – based on payment policy &amp; data where two conditions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985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ertainty the service is not covered or is incorrectly coded, 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985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A written Medicare policy, Medicare article or Medicare sanctioned coding guideline exists (e.g., CPT, Coding Clinic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173B-B3AC-4A72-B1F4-8ACE41C151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20:25:22Z</dcterms:created>
  <dc:creator>Mark Landkamer</dc:creator>
  <dc:description/>
  <dc:language>en-US</dc:language>
  <cp:lastModifiedBy>Frank Fortin</cp:lastModifiedBy>
  <dcterms:modified xsi:type="dcterms:W3CDTF">2009-09-17T16:06:13Z</dcterms:modified>
  <cp:revision>40</cp:revision>
  <dc:subject/>
  <dc:title>PowerPoint Presentation</dc:title>
</cp:coreProperties>
</file>