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32008E-83F1-4511-8AA4-FB66CD453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EDFB50-DF24-48CA-BCDA-CC36BE3AA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76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C811-D291-4AD7-BD78-BAFFD51BA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2811-F0E2-44E4-8C0B-6FC96D4E2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A67F-2DB9-473A-B9E2-2C6D5C1E4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03F5-C3C9-496D-A60F-698A8D27AE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6BB8-5AAE-4230-A06D-F63F5D03FB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69FE-C8A6-4F60-8E8A-781B5DD67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DEDC-F4B2-405A-A556-F7EA8DBAE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8822-1C46-429B-9762-4751C71C2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BAD8-BB74-425B-9E6F-14FCECDA1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6B2C-3388-42C8-90FD-F935ED3CA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2A0A-E503-4DB2-A30A-6944A4114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799F-4C90-4A91-B40D-98C278390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1520" y="6467400"/>
            <a:ext cx="1951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MS - DCS RAC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47b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Click to edit the outline text format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Second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Third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Fourth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Fifth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Sixth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Seventh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929360" y="653868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611F-D24E-42D0-94F8-5A0B50C4E6A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MRAS_RegionA@prgx.com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387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88960"/>
            <a:ext cx="9144000" cy="1559160"/>
          </a:xfrm>
          <a:prstGeom prst="rect">
            <a:avLst/>
          </a:prstGeom>
          <a:solidFill>
            <a:srgbClr val="387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CS, a Performant Compa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very Audit Contractor (RA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r Outreach Presentation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58160" y="727200"/>
            <a:ext cx="1535040" cy="633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035160"/>
            <a:ext cx="9144000" cy="382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FA60-092A-4453-A558-26BB174D64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Process for Aud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185840"/>
            <a:ext cx="836784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3427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Establish a primary point of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93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ontact the RAC to update you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93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Use on-line web-site to register and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Respond to additional documentation request within 45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93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If you can’t meet the timeline, please contact our Provider Service department &amp; request an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If a findings letter is issued, please utilize the ‘discussion period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ommunication is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80DE-B8F7-4BCA-B896-9FE1148E9A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Process for Aud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371600"/>
            <a:ext cx="8215200" cy="29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Medical Record submission methods /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Paper record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D / DVD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F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*  Ensure mailed media is sent in a tamper-evident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0E70-C9A4-473C-A972-953AEFDC06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Contact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8960" y="1600200"/>
            <a:ext cx="882504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34272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oints of contact for MAC Region J1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all Center: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877-677-42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Email: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MRASRegionA@prgx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Fax:               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866-340-062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Website address: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www.DCSRA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2F95-D180-4342-A9C5-5865E28767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Q &amp;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2844720" cy="357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9B60-556D-471A-A949-B5C3E4C45C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Today’s 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8960" y="1523880"/>
            <a:ext cx="7391520" cy="26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DCS/PRG Corporate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Staff Cred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ocesses for Review &amp;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Contact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Questions &amp;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ED70-94AB-4AEB-8299-A9C84B598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38088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Key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8960" y="1523880"/>
            <a:ext cx="882504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David Yim, Vice President, Project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Catherine Till, RAC Project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David Wyatt, Vice President Health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Dr. Earl Berman, RAC Medical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0C88-5C6D-407D-9C7A-345605F411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DCS (Diversified Collection Services)</a:t>
            </a:r>
            <a:endParaRPr b="0" lang="en-US" sz="26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DCS is a subsidiary of Performant Financial Corporation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Over 33 years experience providing service to large government agencies and private companies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Services and products include: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lvl="1" marL="800280" indent="-266760">
              <a:spcBef>
                <a:spcPts val="499"/>
              </a:spcBef>
              <a:buClr>
                <a:srgbClr val="0047b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7b6"/>
                </a:solidFill>
                <a:latin typeface="Arial"/>
              </a:rPr>
              <a:t>Technology platform, portfolio management, improving operational efficiency, revenue optimization and risk management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Strategic relationships that are built on improving revenue, process improvements and value-partnerships in a highly regulated, security sensitive environment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DCS is the Prime Contractor for Region A and is responsible for all RAC activities.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PRG-Schultz will be working as a subcontractor to DCS to support the audit activities.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9B76-136E-4E9C-B281-DF43ADAB702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DCS’ Experience</a:t>
            </a:r>
            <a:endParaRPr b="0" lang="en-US" sz="26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CMS MSP RAC Demonstration (California) 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CMS Recovery of Medicare Beneficiary Prescription Drug Benefit Premium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U.S. Department of the Treasury (MSP &amp; Non-MSP debts)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U. S. Department of Education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State taxing authorities 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Federally chartered state student loan guarantee agencies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8C7A-1223-4F84-8CFA-E99A9350907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PRG-Schultz Corporate 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8960" y="1600200"/>
            <a:ext cx="813924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G is subcontracting in Region A, supporting DCS in RAC audit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G has 12 years of Healthcare auditing industry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Healthcare Clients include Medicare, Medicaid &amp;  Commercial Pay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RAC Demonstration participation in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0845-4306-456C-98DE-A9CD7B6BCE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45720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Staff Credent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8960" y="1447920"/>
            <a:ext cx="8291520" cy="27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22860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Experienced healthcare auditing operations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44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Physicians / Medical Directors providing audit 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44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Registered Nurses / Certified Coders performing all claims &amp; service au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44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Experienced and knowledgeable Provider Services call center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0BD5-9024-4952-8AD3-5A1ED3AA07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45720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Medical Director Responsibi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960" y="1143000"/>
            <a:ext cx="82155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Understanding of NCD/LCD &amp; Medicare policies – providing clinical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RAC issues 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Staff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Quality Assurance &amp; 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Keeping abreast of current medical practice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Applying clinical expertise to possible effects on improper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ovider Outreach &amp; discussion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7C15-5B9B-4E59-8A87-CB2954A0B8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Process for Aud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185840"/>
            <a:ext cx="829152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imary types of aud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39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omplex – includes additional documentation request &amp; audit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39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Automated – based on payment policy &amp; data where two conditions ex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985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ertainty the service is not covered or is incorrectly coded, 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985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A written Medicare policy, Medicare article or Medicare sanctioned coding guideline exists (e.g., CPT, Coding Clinic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8323-9936-446A-B7CB-0621AB566D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20:25:22Z</dcterms:created>
  <dc:creator>Mark Landkamer</dc:creator>
  <dc:description/>
  <dc:language>en-US</dc:language>
  <cp:lastModifiedBy>Frank Fortin</cp:lastModifiedBy>
  <dcterms:modified xsi:type="dcterms:W3CDTF">2009-09-17T16:06:13Z</dcterms:modified>
  <cp:revision>40</cp:revision>
  <dc:subject/>
  <dc:title>PowerPoint Presentation</dc:title>
</cp:coreProperties>
</file>