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710-9B2B-406A-9CDA-89DD82D5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248-5D3F-4D72-BD73-6E05B3FD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2A4-170F-4CF0-A45F-62E8536E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554-DBF6-4180-9E4B-16871041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4480-1C47-40AD-BCF2-1311350B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7160-EBAD-4F02-AACE-0B858B41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7D16-70D4-411B-A00A-1EB04EFF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7E49-2820-4894-90B4-D3695CB8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CAE4-BD38-48B4-9557-D4E8EC98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3A88-6DB3-408A-B7B5-DC263627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8263-16A0-4ABF-A7AF-DDE95B45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A3F-E96F-4B61-BCCF-92247E63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A122-02B2-46CF-807B-319AB7F8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91D3-1384-4B5E-A749-7696E1A9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8AB6-6349-410D-801B-3C0B1FF1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148E-D489-423D-ACF6-348B0E77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7FEC-85E7-4995-B916-378FC629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024-209F-42A8-AB6F-F5352869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D43-8566-4CFF-8ECF-44A2EDDB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F57-FD1A-4EF0-9944-491D7AAF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210-BE43-47F1-92E9-95C19F1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3EF-5678-4811-B8A7-8803DC4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058-FBE1-4815-A289-2DB824C1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70B-0A1E-4C82-A829-CD454A96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D1D8-BF39-4F3A-ACDC-BE03B59C4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EB12-8438-48EF-93C8-C9B30C5F87D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49AF-0D1D-4D38-A1B3-6742EC5F3A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very Audit Contractors (RACs) and Medica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ho, What, When, Where, How and Why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bony Brandon, M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 Region A Project Offi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T Gia Lawrence, BSN, 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 Region A Project Offi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0012-79BE-48BB-A314-04F8A87911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Providers’ Option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 by chec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recoupment from futur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or apply for extended repayment pl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eal-same process for Carrier/FI/MAC denia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f you disagree with the RAC’s determination, don’t stop with the discussion letter, file appeal by Day 120 after Demand L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l Time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cms.hhs.gov/OrgMedFFSAppeals/Downloads/AppealsprocessflowchartAB.pd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35 MLN Ma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cms.hhs.gov/MLNMattersArticles/downloads/MM6183.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2C82-957C-4165-B5CA-DD5DFBEDBA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AC Program’s Three Keys to Succes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ize Provider Burd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Accura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imize Transparen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F14F-45E9-4175-B827-3EFA404CF2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mize Provider Burde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 the RAC “look back period” to three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um look back date is October 1, 200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s will accept imaged medical records on CD/DV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 the number of additional documentation request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CA6F-C02A-4B0B-9D86-F3BE126390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ummary of Additional Documentation Request Limits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(for FY 2009)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(for other provider limits see CMS website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(including podiatrists, chiropractor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e Practitioner: 1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ship 2-5 individuals: 2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 6-15 individuals: 3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Group 16+ individuals: 50 medical records per 45 days per group N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Part B Billers (DME, Lab, Outpatient hospital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% of the average monthly Medicare services (max 200) per NPI per 45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1817-A9B1-4C6D-B68E-D054DB41C5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sure Accurac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AC employ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ed co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rses and/or Therap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hysician CM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S’ New Issue Review Board provides greater overs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C Validation Contractor provides annual accuracy scores for each RA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RAC loses at any level of appeal, the RAC must return the contingency fe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8709-7000-4343-AC8D-A5AFDAACFB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ximize Transparenc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 are posted to the 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Findings are posted to the 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 claim status website (20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ed review results letter following all complex re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15C3-596A-47FC-9085-68DD94E822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35244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New Issue Review Process for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AUTOMATED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2108160"/>
            <a:ext cx="1752840" cy="161856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sends New Issue Review Reque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0" y="4470480"/>
            <a:ext cx="1523880" cy="131364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S reviews and deci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5"/>
          <p:cNvSpPr/>
          <p:nvPr/>
        </p:nvSpPr>
        <p:spPr>
          <a:xfrm flipV="1">
            <a:off x="10058400" y="5170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657600" y="2108160"/>
            <a:ext cx="2438280" cy="161856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pproved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 is posted to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website and RAC may begin widespread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1" name="AutoShape 7"/>
          <p:cNvCxnSpPr>
            <a:stCxn id="147" idx="2"/>
            <a:endCxn id="148" idx="1"/>
          </p:cNvCxnSpPr>
          <p:nvPr/>
        </p:nvCxnSpPr>
        <p:spPr>
          <a:xfrm flipH="1" rot="16200000">
            <a:off x="1187640" y="4032000"/>
            <a:ext cx="13975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8"/>
          <p:cNvCxnSpPr>
            <a:stCxn id="148" idx="3"/>
            <a:endCxn id="150" idx="2"/>
          </p:cNvCxnSpPr>
          <p:nvPr/>
        </p:nvCxnSpPr>
        <p:spPr>
          <a:xfrm flipV="1">
            <a:off x="3809880" y="3733560"/>
            <a:ext cx="1067760" cy="1397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Text Box 9"/>
          <p:cNvSpPr/>
          <p:nvPr/>
        </p:nvSpPr>
        <p:spPr>
          <a:xfrm>
            <a:off x="6705720" y="1808280"/>
            <a:ext cx="1828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and letters are se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MS has approved the New Issue for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4" name="AutoShape 10"/>
          <p:cNvCxnSpPr>
            <a:stCxn id="150" idx="3"/>
            <a:endCxn id="153" idx="1"/>
          </p:cNvCxnSpPr>
          <p:nvPr/>
        </p:nvCxnSpPr>
        <p:spPr>
          <a:xfrm>
            <a:off x="6095880" y="29206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208D-D9EB-4B11-9E0A-C4796C2CE7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New Issue Review Process for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COMPLEX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10058400" y="5170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57200" y="2130480"/>
            <a:ext cx="1676520" cy="1554120"/>
          </a:xfrm>
          <a:prstGeom prst="rect">
            <a:avLst/>
          </a:prstGeom>
          <a:solidFill>
            <a:srgbClr val="ffe6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issu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ed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additional documentation requests to provider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600200" y="4619520"/>
            <a:ext cx="1371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s send additional documen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590920" y="2790720"/>
            <a:ext cx="1371600" cy="82404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review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documen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495680" y="2424240"/>
            <a:ext cx="990720" cy="179748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sends New Issue Review Reques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2" name="AutoShape 8"/>
          <p:cNvCxnSpPr>
            <a:stCxn id="158" idx="2"/>
            <a:endCxn id="159" idx="1"/>
          </p:cNvCxnSpPr>
          <p:nvPr/>
        </p:nvCxnSpPr>
        <p:spPr>
          <a:xfrm flipH="1" rot="16200000">
            <a:off x="779040" y="4215240"/>
            <a:ext cx="133596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9"/>
          <p:cNvCxnSpPr>
            <a:stCxn id="159" idx="3"/>
            <a:endCxn id="160" idx="2"/>
          </p:cNvCxnSpPr>
          <p:nvPr/>
        </p:nvCxnSpPr>
        <p:spPr>
          <a:xfrm flipV="1">
            <a:off x="2971440" y="3620520"/>
            <a:ext cx="305640" cy="1415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10"/>
          <p:cNvCxnSpPr>
            <a:stCxn id="160" idx="3"/>
            <a:endCxn id="161" idx="1"/>
          </p:cNvCxnSpPr>
          <p:nvPr/>
        </p:nvCxnSpPr>
        <p:spPr>
          <a:xfrm>
            <a:off x="3962160" y="3206880"/>
            <a:ext cx="53388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12"/>
          <p:cNvCxnSpPr>
            <a:stCxn id="161" idx="2"/>
            <a:endCxn id="166" idx="1"/>
          </p:cNvCxnSpPr>
          <p:nvPr/>
        </p:nvCxnSpPr>
        <p:spPr>
          <a:xfrm flipH="1" rot="16200000">
            <a:off x="4617000" y="4610520"/>
            <a:ext cx="162468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Text Box 13"/>
          <p:cNvSpPr/>
          <p:nvPr/>
        </p:nvSpPr>
        <p:spPr>
          <a:xfrm>
            <a:off x="5867280" y="5321160"/>
            <a:ext cx="1143000" cy="106740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S reviews and deci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7205760" y="2257560"/>
            <a:ext cx="1252440" cy="2040840"/>
          </a:xfrm>
          <a:prstGeom prst="rect">
            <a:avLst/>
          </a:prstGeom>
          <a:solidFill>
            <a:srgbClr val="fff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pproved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 is posted to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 website and RAC may begin widespread revie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AutoShape 15"/>
          <p:cNvCxnSpPr>
            <a:stCxn id="166" idx="3"/>
            <a:endCxn id="167" idx="2"/>
          </p:cNvCxnSpPr>
          <p:nvPr/>
        </p:nvCxnSpPr>
        <p:spPr>
          <a:xfrm flipV="1">
            <a:off x="7009920" y="4314240"/>
            <a:ext cx="823320" cy="154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 Box 16"/>
          <p:cNvSpPr/>
          <p:nvPr/>
        </p:nvSpPr>
        <p:spPr>
          <a:xfrm>
            <a:off x="2117520" y="1892160"/>
            <a:ext cx="162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hese requests a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d in th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 addi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ation limi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6E84-151F-4934-9B06-5BCE3640C0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e You Ready? Know Where Previous Improper Payments Have Been Found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 to see what improper payments were found by the RA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nstration findings: www.cms.hhs.gov/r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RAC findings: will be listed on the RACs’ websi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 to see what improper payments have been found in OIG and CERT re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IG reports: www.oig.hhs.gov/reports.as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 reports: www.cms.hhs.gov/ce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8E3D-E4A5-4599-A209-089E03FC06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Know if you are submitting claims with improper pay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uct an internal assessment to identify if you are in compliance with Medicare r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corrective actions to implement for compli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6C70-8C8F-4A3A-AE83-7E76771816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 RA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the RACs affect 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RAC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es a RAC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providers’ op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3 Keys to RAC program succ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an providers do to get read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3387-44CE-4A89-B6D2-3C8E47E029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pare to Respond to RAC Additional Documentation Reque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17440"/>
            <a:ext cx="8076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your RAC the precise address and contact person they should use when sending additional documentation request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RA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ater 1/1/2010: use RAC web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necessary, check on the status of your additional documentation (Did the RAC receive it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RA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ater 1/1/2010: use RAC web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D95A-CF4A-49C2-A946-C305D150BB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 Website: www.cms.hhs.gov/R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 Email: RAC@cms.hhs.g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on A Contacts at CM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bony Brand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Ebony.Brandon@cms.hhs.go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a Lawrenc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Gia.Lawrence@cms.hhs.go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FFF4-98CF-4EE8-A774-F171C3BBD4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4343-D81F-483C-A72E-27C679D70D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1371600"/>
            <a:ext cx="914400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2819520"/>
            <a:ext cx="9144000" cy="144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4267080"/>
            <a:ext cx="9144000" cy="1524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133720" y="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AC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2238480"/>
            <a:ext cx="1600200" cy="131436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decides whether additional documentation is required to make a determ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495360" y="961920"/>
            <a:ext cx="609480" cy="381240"/>
          </a:xfrm>
          <a:prstGeom prst="rect">
            <a:avLst/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57200" y="4533840"/>
            <a:ext cx="685800" cy="381240"/>
          </a:xfrm>
          <a:prstGeom prst="rect">
            <a:avLst/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1981080" y="4191120"/>
            <a:ext cx="91440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requests additional documen-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038400" y="4191120"/>
            <a:ext cx="152424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r has 45 days plus 10 calendar days mail time to submit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4648320" y="4191120"/>
            <a:ext cx="129528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has up to 60 days to review additional docu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048360" y="4191120"/>
            <a:ext cx="1114560" cy="1066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makes a claim determ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7315200" y="3784680"/>
            <a:ext cx="1552680" cy="186696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issu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 Results Let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oes NOT communicate improper amount or appeal rights including “no findings”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7848720" y="609480"/>
            <a:ext cx="990360" cy="10670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 makes a claim determina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9" name="AutoShape 17"/>
          <p:cNvCxnSpPr>
            <a:stCxn id="192" idx="3"/>
            <a:endCxn id="193" idx="1"/>
          </p:cNvCxnSpPr>
          <p:nvPr/>
        </p:nvCxnSpPr>
        <p:spPr>
          <a:xfrm>
            <a:off x="1143000" y="4723920"/>
            <a:ext cx="83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18"/>
          <p:cNvCxnSpPr>
            <a:stCxn id="193" idx="3"/>
            <a:endCxn id="194" idx="1"/>
          </p:cNvCxnSpPr>
          <p:nvPr/>
        </p:nvCxnSpPr>
        <p:spPr>
          <a:xfrm>
            <a:off x="2895120" y="472392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19"/>
          <p:cNvCxnSpPr>
            <a:stCxn id="194" idx="3"/>
            <a:endCxn id="195" idx="1"/>
          </p:cNvCxnSpPr>
          <p:nvPr/>
        </p:nvCxnSpPr>
        <p:spPr>
          <a:xfrm>
            <a:off x="4562640" y="4723920"/>
            <a:ext cx="86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20"/>
          <p:cNvCxnSpPr>
            <a:stCxn id="195" idx="3"/>
            <a:endCxn id="196" idx="1"/>
          </p:cNvCxnSpPr>
          <p:nvPr/>
        </p:nvCxnSpPr>
        <p:spPr>
          <a:xfrm>
            <a:off x="5943240" y="4723920"/>
            <a:ext cx="105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21"/>
          <p:cNvCxnSpPr>
            <a:stCxn id="196" idx="3"/>
            <a:endCxn id="197" idx="1"/>
          </p:cNvCxnSpPr>
          <p:nvPr/>
        </p:nvCxnSpPr>
        <p:spPr>
          <a:xfrm flipV="1">
            <a:off x="7162560" y="4717440"/>
            <a:ext cx="1530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22"/>
          <p:cNvCxnSpPr>
            <a:stCxn id="190" idx="0"/>
            <a:endCxn id="191" idx="2"/>
          </p:cNvCxnSpPr>
          <p:nvPr/>
        </p:nvCxnSpPr>
        <p:spPr>
          <a:xfrm flipV="1">
            <a:off x="799920" y="1342440"/>
            <a:ext cx="108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23"/>
          <p:cNvCxnSpPr>
            <a:stCxn id="190" idx="2"/>
            <a:endCxn id="192" idx="0"/>
          </p:cNvCxnSpPr>
          <p:nvPr/>
        </p:nvCxnSpPr>
        <p:spPr>
          <a:xfrm flipH="1">
            <a:off x="799560" y="3552480"/>
            <a:ext cx="10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24"/>
          <p:cNvCxnSpPr>
            <a:stCxn id="191" idx="3"/>
            <a:endCxn id="198" idx="1"/>
          </p:cNvCxnSpPr>
          <p:nvPr/>
        </p:nvCxnSpPr>
        <p:spPr>
          <a:xfrm flipV="1">
            <a:off x="1104480" y="1142640"/>
            <a:ext cx="674460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25"/>
          <p:cNvSpPr/>
          <p:nvPr/>
        </p:nvSpPr>
        <p:spPr>
          <a:xfrm>
            <a:off x="1295280" y="4394160"/>
            <a:ext cx="63828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1352520" y="4800600"/>
            <a:ext cx="53352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1409760" y="838080"/>
            <a:ext cx="72396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28"/>
          <p:cNvSpPr/>
          <p:nvPr/>
        </p:nvSpPr>
        <p:spPr>
          <a:xfrm>
            <a:off x="1476360" y="1270080"/>
            <a:ext cx="533520" cy="228600"/>
          </a:xfrm>
          <a:prstGeom prst="rect">
            <a:avLst/>
          </a:prstGeom>
          <a:solidFill>
            <a:srgbClr val="ffe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883908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30"/>
          <p:cNvSpPr/>
          <p:nvPr/>
        </p:nvSpPr>
        <p:spPr>
          <a:xfrm>
            <a:off x="7750080" y="5943600"/>
            <a:ext cx="685800" cy="6858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f 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3" name="AutoShape 31"/>
          <p:cNvCxnSpPr>
            <a:stCxn id="197" idx="2"/>
            <a:endCxn id="212" idx="2"/>
          </p:cNvCxnSpPr>
          <p:nvPr/>
        </p:nvCxnSpPr>
        <p:spPr>
          <a:xfrm>
            <a:off x="8091000" y="5651280"/>
            <a:ext cx="252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32"/>
          <p:cNvCxnSpPr/>
          <p:nvPr/>
        </p:nvCxnSpPr>
        <p:spPr>
          <a:xfrm flipV="1">
            <a:off x="8867520" y="3199680"/>
            <a:ext cx="276840" cy="1181880"/>
          </a:xfrm>
          <a:prstGeom prst="bentConnector3">
            <a:avLst>
              <a:gd name="adj1" fmla="val 550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08A1-B6EE-4AD8-8A9E-5E8C8DFBAE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C919-BC25-423E-B3A1-016481ADAA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1371600"/>
            <a:ext cx="914400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2819520"/>
            <a:ext cx="9144000" cy="144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4267080"/>
            <a:ext cx="9144000" cy="1524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0880" y="2438280"/>
            <a:ext cx="1219320" cy="15242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AC sends claim info to  Carrier/FI/MAC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133720" y="2438280"/>
            <a:ext cx="1371600" cy="15242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/FI/MAC adjusts &amp; issu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itt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o provid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“N432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6477120" y="2514600"/>
            <a:ext cx="1904760" cy="14479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Day 41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/FI/MAC  rec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offs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5" name="AutoShape 10"/>
          <p:cNvCxnSpPr/>
          <p:nvPr/>
        </p:nvCxnSpPr>
        <p:spPr>
          <a:xfrm>
            <a:off x="1600200" y="326340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1"/>
          <p:cNvCxnSpPr>
            <a:endCxn id="222" idx="0"/>
          </p:cNvCxnSpPr>
          <p:nvPr/>
        </p:nvCxnSpPr>
        <p:spPr>
          <a:xfrm>
            <a:off x="-533520" y="1095480"/>
            <a:ext cx="1524960" cy="134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AutoShape 12"/>
          <p:cNvSpPr/>
          <p:nvPr/>
        </p:nvSpPr>
        <p:spPr>
          <a:xfrm rot="16200000">
            <a:off x="5753160" y="647640"/>
            <a:ext cx="533520" cy="1828800"/>
          </a:xfrm>
          <a:prstGeom prst="upDownArrow">
            <a:avLst>
              <a:gd name="adj1" fmla="val 64287"/>
              <a:gd name="adj2" fmla="val 73523"/>
            </a:avLst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8" name="AutoShape 13"/>
          <p:cNvCxnSpPr>
            <a:endCxn id="222" idx="1"/>
          </p:cNvCxnSpPr>
          <p:nvPr/>
        </p:nvCxnSpPr>
        <p:spPr>
          <a:xfrm flipH="1" flipV="1" rot="5400000">
            <a:off x="-248040" y="3447720"/>
            <a:ext cx="87696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AutoShape 14"/>
          <p:cNvSpPr/>
          <p:nvPr/>
        </p:nvSpPr>
        <p:spPr>
          <a:xfrm rot="16200000">
            <a:off x="2781360" y="2528640"/>
            <a:ext cx="1143000" cy="6095880"/>
          </a:xfrm>
          <a:prstGeom prst="upDownArrow">
            <a:avLst>
              <a:gd name="adj1" fmla="val 39593"/>
              <a:gd name="adj2" fmla="val 78739"/>
            </a:avLst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Review Discussion Perio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4025880" y="2438280"/>
            <a:ext cx="1828800" cy="15242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1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 issu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emand Let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cludes amount and appeal righ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3505320" y="3276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5947-8724-414B-91B6-343AECF289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RAC?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RAC Program Mission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ACs detect and corr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as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per payments so that CMS and Carriers, FIs, and MACs can implement actions that will prev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mproper pay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vi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avoid submitting claims that do not comply with Medicare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lower its error r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xpay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future Medicare beneficiaries are protec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DFE1-3284-4D4C-B449-2E8CCE0E99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ll the RACs affect m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s, if you bill fee-for-service programs, your claims will be subject to review by the RA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laims are eligible for RAC review currently so providers can start to receive correspondence 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BDFE-B3A8-49FD-8311-B55FDE9458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do we have RACs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op Federal Programs with Improper Payments 2008 (Billion Dollar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Chart 35" descr=""/>
          <p:cNvPicPr/>
          <p:nvPr/>
        </p:nvPicPr>
        <p:blipFill>
          <a:blip r:embed="rId1"/>
          <a:stretch/>
        </p:blipFill>
        <p:spPr>
          <a:xfrm>
            <a:off x="-12600" y="1901880"/>
            <a:ext cx="9169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CA4C-D32D-4411-8720-5D9C5C9B7B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C Legisl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re Modernization Act, Section 30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 the 3-year RAC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 Relief and Healthcare Act of 2006, Section 30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 permanent and nationwide RAC program by January 1,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of these statutes gave CMS the authority to pay the RACs on a contingency fee ba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D58A-8014-462B-9186-14C76E0B0C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oes a RAC do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C Review Proces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review claims on a post-payment ba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use the same Medicare policies as Carriers, FIs and MA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CDs, LCDs, CMS Manua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 of revie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(no medical record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(medical record require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will not be able to review claims paid prior to October 1, 200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s will be able to look back three years from the date the claim was pai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s are required to employ a staff consisting of nurses or therapists, certified coders, and a physician CM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EE47-7CA6-46E1-8619-9C5B1C766B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llection Proces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as for Carrier, FI and MAC identified overpay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riers, FIs and MACs issue Remittance Advi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ark Code N432: “Adjustment Based on Recovery Audit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, FI, MAC recoups by offset unless provider has submitted a check or a valid appe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5124-499B-4F07-8993-85B35DE78E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differ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 letter is issued by the RA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C will offer an opportunity for the provider to discuss the improper payment determination with the RAC (this is outside the normal appeal process &amp; is known as the RAC discussion perio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s reviewed by the RAC will be approved by CMS prior to widespread review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ved issues will be posted to a RAC website before widespread review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41:08Z</dcterms:created>
  <dc:creator>CMS</dc:creator>
  <dc:description/>
  <dc:language>en-US</dc:language>
  <cp:lastModifiedBy>Frank Fortin</cp:lastModifiedBy>
  <dcterms:modified xsi:type="dcterms:W3CDTF">2009-10-21T14:39:49Z</dcterms:modified>
  <cp:revision>51</cp:revision>
  <dc:subject/>
  <dc:title>Slide 1</dc:title>
</cp:coreProperties>
</file>