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47D-4DD8-46FB-8DF8-6B8DDAD3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5F8E-6801-4389-B94A-784CC654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A618-DB5B-4A03-ACBB-A81D6A2A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CA2A-1C30-4856-B403-95BBA899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53CF-87D4-495E-94FA-C7964574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0743-88FC-4C1D-98BC-9597F341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3E6C-44BB-4380-B606-6E1749CE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2079-67D2-4375-828C-A965D0E1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1AC7-43CD-4B62-A0BC-299B3585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F009-60FB-479E-98B5-1A8936CF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0EC7-3AB1-425A-B434-5960A472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C151-9484-4ACB-AD86-4FFDFDC9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B66B-6F40-4B89-A8D9-8F8BC5C5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454E-AF61-409F-8D7B-DBF674D9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415D-2FC1-4379-9538-A7242E05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8F3A-22DA-4372-94F4-F2EDA82F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B46E-AD8D-409A-810D-DBB8BDEE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6855-9B41-44CF-92D8-7BEB0052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DC4F-92E7-46F0-9B20-61D87188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58CF-AE74-4754-AAA2-37CB9F66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DD8-53EB-4454-A845-EF4C932D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C4B5-B63E-41BC-87FD-7258EB46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AA8-0BE0-46BF-B745-10B187BC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C304-0B2F-4756-AB79-39396810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7F1C-7125-4E28-8412-8EEC66F3B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61F4-FEA7-4F6D-84C7-B53545B8223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AC97-363C-4592-B188-E99668D1E2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overy Audit Contractors (RACs) and Medicar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Who, What, When, Where, How and Why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bony Brandon, MP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C Region A Project Offic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T Gia Lawrence, BSN, 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C Region A Project Offic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ABD5-C3D8-46CE-A93A-80788689D2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Providers’ Option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 by chec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recoupment from future pay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or apply for extended repayment pla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eal-same process for Carrier/FI/MAC denial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f you disagree with the RAC’s determination, don’t stop with the discussion letter, file appeal by Day 120 after Demand Let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l Time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cms.hhs.gov/OrgMedFFSAppeals/Downloads/AppealsprocessflowchartAB.pd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35 MLN Mat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cms.hhs.gov/MLNMattersArticles/downloads/MM6183.pd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FA67-4710-476A-972C-0941E68B76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AC Program’s Three Keys to Succes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ize Provider Burd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Accurac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imize Transparenc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0535-98EA-4ED4-B269-D54F044B57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nimize Provider Burde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 the RAC “look back period” to three ye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um look back date is October 1, 2007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s will accept imaged medical records on CD/DV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 the number of additional documentation request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CCA0-E467-403C-9B1B-E77B0C842B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ummary of Additional Documentation Request Limits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(for FY 2009)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(for other provider limits see CMS website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ians (including podiatrists, chiropractor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e Practitioner: 10 medical records per 45 days per group N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nership 2-5 individuals: 20 medical records per 45 days per group N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up 6-15 individuals: 30 medical records per 45 days per group N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 Group 16+ individuals: 50 medical records per 45 days per group N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Part B Billers (DME, Lab, Outpatient hospital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% of the average monthly Medicare services (max 200) per NPI per 45 d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D564-44DD-4AAA-BA88-500F20DA3F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sure Accurac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AC employ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ified co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rses and/or Therapis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hysician CM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S’ New Issue Review Board provides greater oversigh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C Validation Contractor provides annual accuracy scores for each RA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RAC loses at any level of appeal, the RAC must return the contingency fe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6B2D-13D6-465B-9289-0D67237BCC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ximize Transparenc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 are posted to the we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 Findings are posted to the we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 claim status website (201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ailed review results letter following all complex re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D5CE-E253-4EFF-9B0D-A91E48CA00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352440"/>
            <a:ext cx="883944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New Issue Review Process for </a:t>
            </a: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AUTOMATED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09480" y="2108160"/>
            <a:ext cx="1752840" cy="1618560"/>
          </a:xfrm>
          <a:prstGeom prst="rect">
            <a:avLst/>
          </a:prstGeom>
          <a:solidFill>
            <a:srgbClr val="fff2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 sends New Issue Review Reques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C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286000" y="4470480"/>
            <a:ext cx="1523880" cy="131364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S reviews and deci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5"/>
          <p:cNvSpPr/>
          <p:nvPr/>
        </p:nvSpPr>
        <p:spPr>
          <a:xfrm flipV="1">
            <a:off x="10058400" y="517032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657600" y="2108160"/>
            <a:ext cx="2438280" cy="1618560"/>
          </a:xfrm>
          <a:prstGeom prst="rect">
            <a:avLst/>
          </a:prstGeom>
          <a:solidFill>
            <a:srgbClr val="fff2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approved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 is posted to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 website and RAC may begin widespread re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1" name="AutoShape 7"/>
          <p:cNvCxnSpPr>
            <a:stCxn id="147" idx="2"/>
            <a:endCxn id="148" idx="1"/>
          </p:cNvCxnSpPr>
          <p:nvPr/>
        </p:nvCxnSpPr>
        <p:spPr>
          <a:xfrm flipH="1" rot="16200000">
            <a:off x="1187640" y="4032000"/>
            <a:ext cx="1397520" cy="800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8"/>
          <p:cNvCxnSpPr>
            <a:stCxn id="148" idx="3"/>
            <a:endCxn id="150" idx="2"/>
          </p:cNvCxnSpPr>
          <p:nvPr/>
        </p:nvCxnSpPr>
        <p:spPr>
          <a:xfrm flipV="1">
            <a:off x="3809880" y="3733560"/>
            <a:ext cx="1067760" cy="1397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Text Box 9"/>
          <p:cNvSpPr/>
          <p:nvPr/>
        </p:nvSpPr>
        <p:spPr>
          <a:xfrm>
            <a:off x="6705720" y="1808280"/>
            <a:ext cx="1828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and letters are se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MS has approved the New Issue for Re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4" name="AutoShape 10"/>
          <p:cNvCxnSpPr>
            <a:stCxn id="150" idx="3"/>
            <a:endCxn id="153" idx="1"/>
          </p:cNvCxnSpPr>
          <p:nvPr/>
        </p:nvCxnSpPr>
        <p:spPr>
          <a:xfrm>
            <a:off x="6095880" y="29206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0829-DDC0-4F50-BB05-829B93E7F3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New Issue Review Process for </a:t>
            </a: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COMPLEX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10058400" y="517032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457200" y="2130480"/>
            <a:ext cx="1676520" cy="1554120"/>
          </a:xfrm>
          <a:prstGeom prst="rect">
            <a:avLst/>
          </a:prstGeom>
          <a:solidFill>
            <a:srgbClr val="ffe6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 issu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ed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f additional documentation requests to provider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600200" y="4619520"/>
            <a:ext cx="13716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rs send additional document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2590920" y="2790720"/>
            <a:ext cx="1371600" cy="824040"/>
          </a:xfrm>
          <a:prstGeom prst="rect">
            <a:avLst/>
          </a:prstGeom>
          <a:solidFill>
            <a:srgbClr val="fff2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 review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itional document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495680" y="2424240"/>
            <a:ext cx="990720" cy="1797480"/>
          </a:xfrm>
          <a:prstGeom prst="rect">
            <a:avLst/>
          </a:prstGeom>
          <a:solidFill>
            <a:srgbClr val="fff2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 sends New Issue Review Reques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C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2" name="AutoShape 8"/>
          <p:cNvCxnSpPr>
            <a:stCxn id="158" idx="2"/>
            <a:endCxn id="159" idx="1"/>
          </p:cNvCxnSpPr>
          <p:nvPr/>
        </p:nvCxnSpPr>
        <p:spPr>
          <a:xfrm flipH="1" rot="16200000">
            <a:off x="779040" y="4215240"/>
            <a:ext cx="133596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AutoShape 9"/>
          <p:cNvCxnSpPr>
            <a:stCxn id="159" idx="3"/>
            <a:endCxn id="160" idx="2"/>
          </p:cNvCxnSpPr>
          <p:nvPr/>
        </p:nvCxnSpPr>
        <p:spPr>
          <a:xfrm flipV="1">
            <a:off x="2971440" y="3620520"/>
            <a:ext cx="305640" cy="1415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AutoShape 10"/>
          <p:cNvCxnSpPr>
            <a:stCxn id="160" idx="3"/>
            <a:endCxn id="161" idx="1"/>
          </p:cNvCxnSpPr>
          <p:nvPr/>
        </p:nvCxnSpPr>
        <p:spPr>
          <a:xfrm>
            <a:off x="3962160" y="3206880"/>
            <a:ext cx="53388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AutoShape 12"/>
          <p:cNvCxnSpPr>
            <a:stCxn id="161" idx="2"/>
            <a:endCxn id="166" idx="1"/>
          </p:cNvCxnSpPr>
          <p:nvPr/>
        </p:nvCxnSpPr>
        <p:spPr>
          <a:xfrm flipH="1" rot="16200000">
            <a:off x="4617000" y="4610520"/>
            <a:ext cx="162468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Text Box 13"/>
          <p:cNvSpPr/>
          <p:nvPr/>
        </p:nvSpPr>
        <p:spPr>
          <a:xfrm>
            <a:off x="5867280" y="5321160"/>
            <a:ext cx="1143000" cy="106740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S reviews and deci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7205760" y="2257560"/>
            <a:ext cx="1252440" cy="2040840"/>
          </a:xfrm>
          <a:prstGeom prst="rect">
            <a:avLst/>
          </a:prstGeom>
          <a:solidFill>
            <a:srgbClr val="fff2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approved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 is posted to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 website and RAC may begin widespread revie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AutoShape 15"/>
          <p:cNvCxnSpPr>
            <a:stCxn id="166" idx="3"/>
            <a:endCxn id="167" idx="2"/>
          </p:cNvCxnSpPr>
          <p:nvPr/>
        </p:nvCxnSpPr>
        <p:spPr>
          <a:xfrm flipV="1">
            <a:off x="7009920" y="4314240"/>
            <a:ext cx="823320" cy="1546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Text Box 16"/>
          <p:cNvSpPr/>
          <p:nvPr/>
        </p:nvSpPr>
        <p:spPr>
          <a:xfrm>
            <a:off x="2117520" y="1892160"/>
            <a:ext cx="162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hese requests a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ed in th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r addi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ation limit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A9F6-9001-4A01-AE12-00298CE067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e You Ready? Know Where Previous Improper Payments Have Been Found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k to see what improper payments were found by the RA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nstration findings: www.cms.hhs.gov/r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RAC findings: will be listed on the RACs’ websit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k to see what improper payments have been found in OIG and CERT repor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IG reports: www.oig.hhs.gov/reports.as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 reports: www.cms.hhs.gov/ce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C800-C548-4AF7-98E3-9947E3C4C1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Know if you are submitting claims with improper payme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uct an internal assessment to identify if you are in compliance with Medicare r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corrective actions to implement for compli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2261-9061-4CEE-B8DE-16A429816F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 RAC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the RACs affect m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RAC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oes a RAC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providers’ opti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3 Keys to RAC program succes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can providers do to get read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EFE0-1D4D-4D5F-985C-684559C858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e to Respond to RAC Additional Documentation Reques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2017440"/>
            <a:ext cx="80769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your RAC the precise address and contact person they should use when sending additional documentation request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RA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ater 1/1/2010: use RAC web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necessary, check on the status of your additional documentation (Did the RAC receive it?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RA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ater 1/1/2010: use RAC web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FF27-72F6-4347-B142-86CE756DB9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 Website: www.cms.hhs.gov/RA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 Email: RAC@cms.hhs.go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ion A Contacts at CMS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bony Brando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(Ebony.Brandon@cms.hhs.go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a Lawrenc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(Gia.Lawrence@cms.hhs.go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09C8-4830-4AC6-9638-E3EE706CAC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4032-C3F6-4D82-8D68-BBE0166F7E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0" y="1371600"/>
            <a:ext cx="9144000" cy="1523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2819520"/>
            <a:ext cx="9144000" cy="1447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4267080"/>
            <a:ext cx="9144000" cy="1524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133720" y="0"/>
            <a:ext cx="518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AC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0" y="2238480"/>
            <a:ext cx="1600200" cy="131436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 decides whether additional documentation is required to make a determ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495360" y="961920"/>
            <a:ext cx="609480" cy="381240"/>
          </a:xfrm>
          <a:prstGeom prst="rect">
            <a:avLst/>
          </a:prstGeom>
          <a:solidFill>
            <a:srgbClr val="7575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457200" y="4533840"/>
            <a:ext cx="685800" cy="381240"/>
          </a:xfrm>
          <a:prstGeom prst="rect">
            <a:avLst/>
          </a:prstGeom>
          <a:solidFill>
            <a:srgbClr val="7575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1981080" y="4191120"/>
            <a:ext cx="914400" cy="106668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 requests additional documen-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3038400" y="4191120"/>
            <a:ext cx="1524240" cy="106668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r has 45 days plus 10 calendar days mail time to submit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4648320" y="4191120"/>
            <a:ext cx="1295280" cy="106668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 has up to 60 days to review additional docu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6048360" y="4191120"/>
            <a:ext cx="1114560" cy="106668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 makes a claim determ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7315200" y="3784680"/>
            <a:ext cx="1552680" cy="186696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 issu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iew Results Let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oes NOT communicate improper amount or appeal rights including “no findings”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7848720" y="609480"/>
            <a:ext cx="990360" cy="10670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 makes a claim determinatio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9" name="AutoShape 17"/>
          <p:cNvCxnSpPr>
            <a:stCxn id="192" idx="3"/>
            <a:endCxn id="193" idx="1"/>
          </p:cNvCxnSpPr>
          <p:nvPr/>
        </p:nvCxnSpPr>
        <p:spPr>
          <a:xfrm>
            <a:off x="1143000" y="4723920"/>
            <a:ext cx="838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18"/>
          <p:cNvCxnSpPr>
            <a:stCxn id="193" idx="3"/>
            <a:endCxn id="194" idx="1"/>
          </p:cNvCxnSpPr>
          <p:nvPr/>
        </p:nvCxnSpPr>
        <p:spPr>
          <a:xfrm>
            <a:off x="2895120" y="4723920"/>
            <a:ext cx="143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19"/>
          <p:cNvCxnSpPr>
            <a:stCxn id="194" idx="3"/>
            <a:endCxn id="195" idx="1"/>
          </p:cNvCxnSpPr>
          <p:nvPr/>
        </p:nvCxnSpPr>
        <p:spPr>
          <a:xfrm>
            <a:off x="4562640" y="4723920"/>
            <a:ext cx="86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20"/>
          <p:cNvCxnSpPr>
            <a:stCxn id="195" idx="3"/>
            <a:endCxn id="196" idx="1"/>
          </p:cNvCxnSpPr>
          <p:nvPr/>
        </p:nvCxnSpPr>
        <p:spPr>
          <a:xfrm>
            <a:off x="5943240" y="4723920"/>
            <a:ext cx="105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AutoShape 21"/>
          <p:cNvCxnSpPr>
            <a:stCxn id="196" idx="3"/>
            <a:endCxn id="197" idx="1"/>
          </p:cNvCxnSpPr>
          <p:nvPr/>
        </p:nvCxnSpPr>
        <p:spPr>
          <a:xfrm flipV="1">
            <a:off x="7162560" y="4717440"/>
            <a:ext cx="1530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22"/>
          <p:cNvCxnSpPr>
            <a:stCxn id="190" idx="0"/>
            <a:endCxn id="191" idx="2"/>
          </p:cNvCxnSpPr>
          <p:nvPr/>
        </p:nvCxnSpPr>
        <p:spPr>
          <a:xfrm flipV="1">
            <a:off x="799920" y="1342440"/>
            <a:ext cx="1080" cy="89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23"/>
          <p:cNvCxnSpPr>
            <a:stCxn id="190" idx="2"/>
            <a:endCxn id="192" idx="0"/>
          </p:cNvCxnSpPr>
          <p:nvPr/>
        </p:nvCxnSpPr>
        <p:spPr>
          <a:xfrm flipH="1">
            <a:off x="799560" y="3552480"/>
            <a:ext cx="108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24"/>
          <p:cNvCxnSpPr>
            <a:stCxn id="191" idx="3"/>
            <a:endCxn id="198" idx="1"/>
          </p:cNvCxnSpPr>
          <p:nvPr/>
        </p:nvCxnSpPr>
        <p:spPr>
          <a:xfrm flipV="1">
            <a:off x="1104480" y="1142640"/>
            <a:ext cx="674460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25"/>
          <p:cNvSpPr/>
          <p:nvPr/>
        </p:nvSpPr>
        <p:spPr>
          <a:xfrm>
            <a:off x="1295280" y="4394160"/>
            <a:ext cx="638280" cy="228600"/>
          </a:xfrm>
          <a:prstGeom prst="rect">
            <a:avLst/>
          </a:prstGeom>
          <a:solidFill>
            <a:srgbClr val="ffe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26"/>
          <p:cNvSpPr/>
          <p:nvPr/>
        </p:nvSpPr>
        <p:spPr>
          <a:xfrm>
            <a:off x="1352520" y="4800600"/>
            <a:ext cx="533520" cy="228600"/>
          </a:xfrm>
          <a:prstGeom prst="rect">
            <a:avLst/>
          </a:prstGeom>
          <a:solidFill>
            <a:srgbClr val="ffe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27"/>
          <p:cNvSpPr/>
          <p:nvPr/>
        </p:nvSpPr>
        <p:spPr>
          <a:xfrm>
            <a:off x="1409760" y="838080"/>
            <a:ext cx="723960" cy="228600"/>
          </a:xfrm>
          <a:prstGeom prst="rect">
            <a:avLst/>
          </a:prstGeom>
          <a:solidFill>
            <a:srgbClr val="ffe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28"/>
          <p:cNvSpPr/>
          <p:nvPr/>
        </p:nvSpPr>
        <p:spPr>
          <a:xfrm>
            <a:off x="1476360" y="1270080"/>
            <a:ext cx="533520" cy="228600"/>
          </a:xfrm>
          <a:prstGeom prst="rect">
            <a:avLst/>
          </a:prstGeom>
          <a:solidFill>
            <a:srgbClr val="ffe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29"/>
          <p:cNvSpPr/>
          <p:nvPr/>
        </p:nvSpPr>
        <p:spPr>
          <a:xfrm>
            <a:off x="8839080" y="114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AutoShape 30"/>
          <p:cNvSpPr/>
          <p:nvPr/>
        </p:nvSpPr>
        <p:spPr>
          <a:xfrm>
            <a:off x="7750080" y="5943600"/>
            <a:ext cx="685800" cy="6858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f n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3" name="AutoShape 31"/>
          <p:cNvCxnSpPr>
            <a:stCxn id="197" idx="2"/>
            <a:endCxn id="212" idx="2"/>
          </p:cNvCxnSpPr>
          <p:nvPr/>
        </p:nvCxnSpPr>
        <p:spPr>
          <a:xfrm>
            <a:off x="8091000" y="5651280"/>
            <a:ext cx="252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32"/>
          <p:cNvCxnSpPr/>
          <p:nvPr/>
        </p:nvCxnSpPr>
        <p:spPr>
          <a:xfrm flipV="1">
            <a:off x="8867520" y="3199680"/>
            <a:ext cx="276840" cy="1181880"/>
          </a:xfrm>
          <a:prstGeom prst="bentConnector3">
            <a:avLst>
              <a:gd name="adj1" fmla="val 550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26B0-8C32-4047-86D8-8B2214A0B8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7392-A018-405A-A994-AD2AF93E39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0" y="1371600"/>
            <a:ext cx="9144000" cy="1523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0" y="2819520"/>
            <a:ext cx="9144000" cy="1447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4267080"/>
            <a:ext cx="9144000" cy="1524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0880" y="2438280"/>
            <a:ext cx="1219320" cy="15242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AC sends claim info to  Carrier/FI/MAC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2133720" y="2438280"/>
            <a:ext cx="1371600" cy="15242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/FI/MAC adjusts &amp; issu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mitta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to provid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 “N432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6477120" y="2514600"/>
            <a:ext cx="1904760" cy="144792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Day 41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/FI/MAC  recou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offs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5" name="AutoShape 10"/>
          <p:cNvCxnSpPr/>
          <p:nvPr/>
        </p:nvCxnSpPr>
        <p:spPr>
          <a:xfrm>
            <a:off x="1600200" y="326340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1"/>
          <p:cNvCxnSpPr>
            <a:endCxn id="222" idx="0"/>
          </p:cNvCxnSpPr>
          <p:nvPr/>
        </p:nvCxnSpPr>
        <p:spPr>
          <a:xfrm>
            <a:off x="-533520" y="1095480"/>
            <a:ext cx="1524960" cy="1343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AutoShape 12"/>
          <p:cNvSpPr/>
          <p:nvPr/>
        </p:nvSpPr>
        <p:spPr>
          <a:xfrm rot="16200000">
            <a:off x="5753160" y="647640"/>
            <a:ext cx="533520" cy="1828800"/>
          </a:xfrm>
          <a:prstGeom prst="upDownArrow">
            <a:avLst>
              <a:gd name="adj1" fmla="val 64287"/>
              <a:gd name="adj2" fmla="val 73523"/>
            </a:avLst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mate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ussion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8" name="AutoShape 13"/>
          <p:cNvCxnSpPr>
            <a:endCxn id="222" idx="1"/>
          </p:cNvCxnSpPr>
          <p:nvPr/>
        </p:nvCxnSpPr>
        <p:spPr>
          <a:xfrm flipH="1" flipV="1" rot="5400000">
            <a:off x="-248040" y="3447720"/>
            <a:ext cx="87696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AutoShape 14"/>
          <p:cNvSpPr/>
          <p:nvPr/>
        </p:nvSpPr>
        <p:spPr>
          <a:xfrm rot="16200000">
            <a:off x="2781360" y="2528640"/>
            <a:ext cx="1143000" cy="6095880"/>
          </a:xfrm>
          <a:prstGeom prst="upDownArrow">
            <a:avLst>
              <a:gd name="adj1" fmla="val 39593"/>
              <a:gd name="adj2" fmla="val 78739"/>
            </a:avLst>
          </a:prstGeom>
          <a:solidFill>
            <a:srgbClr val="7575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 Review Discussion Perio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4025880" y="2438280"/>
            <a:ext cx="1828800" cy="15242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1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 issu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emand Let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ncludes amount and appeal righ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3505320" y="3276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58672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CB31-5284-4626-B221-C9088CAA4D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RAC?</a:t>
            </a:r>
            <a:br>
              <a:rPr sz="44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RAC Program Mission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ACs detect and corre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as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oper payments so that CMS and Carriers, FIs, and MACs can implement actions that will preve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fu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mproper payme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vi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 avoid submitting claims that do not comply with Medicare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M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 lower its error r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xpay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future Medicare beneficiaries are protec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A955-2512-4F57-8F77-F8318AFBD1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ll the RACs affect m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es, if you bill fee-for-service programs, your claims will be subject to review by the RA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claims are eligible for RAC review currently so providers can start to receive correspondence 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737E-985A-4CF5-B6A2-535E194B43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do we have RACs?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op Federal Programs with Improper Payments 2008 (Billion Dollar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Chart 35" descr=""/>
          <p:cNvPicPr/>
          <p:nvPr/>
        </p:nvPicPr>
        <p:blipFill>
          <a:blip r:embed="rId1"/>
          <a:stretch/>
        </p:blipFill>
        <p:spPr>
          <a:xfrm>
            <a:off x="-12600" y="1901880"/>
            <a:ext cx="91692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D542-6DBC-4D84-AC03-BA55A575A9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C Legisl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re Modernization Act, Section 306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d the 3-year RAC demon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x Relief and Healthcare Act of 2006, Section 30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 permanent and nationwide RAC program by January 1, 2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of these statutes gave CMS the authority to pay the RACs on a contingency fee bas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7D79-3D0B-43F3-8EC8-69F6F39C26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oes a RAC do?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AC Review Proces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Cs review claims on a post-payment bas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Cs use the same Medicare policies as Carriers, FIs and MA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CDs, LCDs, CMS Manual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ypes of revie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mated (no medical record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(medical record require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Cs will not be able to review claims paid prior to October 1, 2007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Cs will be able to look back three years from the date the claim was pai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Cs are required to employ a staff consisting of nurses or therapists, certified coders, and a physician CM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F61B-2695-4D4A-A85E-ED11533068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ollection Proces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e as for Carrier, FI and MAC identified overpayme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riers, FIs and MACs issue Remittance Advi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ark Code N432: “Adjustment Based on Recovery Audit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, FI, MAC recoups by offset unless provider has submitted a check or a valid appe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A5E3-19E9-42C4-87AB-2CA2FDE3CB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differe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and letter is issued by the RA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C will offer an opportunity for the provider to discuss the improper payment determination with the RAC (this is outside the normal appeal process &amp; is known as the RAC discussion period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s reviewed by the RAC will be approved by CMS prior to widespread review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ved issues will be posted to a RAC website before widespread review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41:08Z</dcterms:created>
  <dc:creator>CMS</dc:creator>
  <dc:description/>
  <dc:language>en-US</dc:language>
  <cp:lastModifiedBy>Frank Fortin</cp:lastModifiedBy>
  <dcterms:modified xsi:type="dcterms:W3CDTF">2009-10-21T14:39:49Z</dcterms:modified>
  <cp:revision>51</cp:revision>
  <dc:subject/>
  <dc:title>Slide 1</dc:title>
</cp:coreProperties>
</file>