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7EF66C-6246-4E06-8A03-F7E728C1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3BCF13-5690-48D7-AF44-4AC381CC6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7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0763-62CC-4A27-8710-CCA242563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1864-63E6-4ACC-8287-6C84478EE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5CCA-3621-44FF-A934-E8158C5B0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49CC-01A7-4CE4-9406-2699361552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C410-F1A3-48F5-B074-E33C3E58B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05D8-1030-43E3-A055-DE13445E9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5396-8874-433D-8CDB-F63CDF150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A8DE-40AF-4488-98DE-673C6B69E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8894-8C73-4AD0-83D4-525E7CBB5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FDE9-932A-44D5-831F-30A12D50F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45E8-0684-4EE9-872B-7A6E0393F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5491-3BEC-4EFB-AC75-8709BAB12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1520" y="6467400"/>
            <a:ext cx="1951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MS - DCS RAC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47b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7b6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929360" y="653868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55AB-E449-4EA0-9F9A-8FBFE94E6B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RAS_RegionA@prgx.co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387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88960"/>
            <a:ext cx="9144000" cy="1559160"/>
          </a:xfrm>
          <a:prstGeom prst="rect">
            <a:avLst/>
          </a:prstGeom>
          <a:solidFill>
            <a:srgbClr val="387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S, a Performant Compa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very Audit Contractor (R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 Outreach Presentatio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58160" y="727200"/>
            <a:ext cx="1535040" cy="633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035160"/>
            <a:ext cx="9144000" cy="382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EADF-DCE0-45E4-8067-149878F7F0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185840"/>
            <a:ext cx="836784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stablish a primary point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ntact the RAC to update you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Use on-line web-site to register and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Respond to additional documentation request within 4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93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If you can’t meet the timeline, please contact our Provider Service department &amp; request an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If a findings letter is issued, please utilize the ‘discussion perio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mmunication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6F92-CCF2-4FFB-86EE-B853D2FA41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371600"/>
            <a:ext cx="821520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Medical Record submission methods /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Paper record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D / DVD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908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*  Ensure mailed media is sent in a tamper-eviden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4239-FAFA-47D6-B1DA-1EBFB5D8B1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Contac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8960" y="1600200"/>
            <a:ext cx="882504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4272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oints of contact for MAC Region J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all Center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877-677-42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mail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MRASRegionA@prg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Fax:               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866-340-06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Website address: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www.DCSRA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C643-8310-44C1-9361-45DC0CF9A0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Q &amp;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844720" cy="35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03EB-0593-4881-9CF7-C445DED8AC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Today’s 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8960" y="1523880"/>
            <a:ext cx="739152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CS/PRG Corporat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ff Cred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ocesses for Review &amp;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ontac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Questions &amp;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5C2F-B6E7-4E7E-83F4-6AF814537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8088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Key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8960" y="1523880"/>
            <a:ext cx="882504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avid Yim, Vice President, Project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atherine Till, RAC Project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avid Wyatt, Vice President Health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Dr. Earl Berman, RAC Medical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1FBD-A198-4CE8-8FA9-1F13A8807C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DCS (Diversified Collection Services)</a:t>
            </a:r>
            <a:endParaRPr b="0" lang="en-US" sz="26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DCS is a subsidiary of Performant Financial Corporation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Over 33 years experience providing service to large government agencies and private companies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Services and products include: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lvl="1" marL="800280" indent="-266760">
              <a:spcBef>
                <a:spcPts val="499"/>
              </a:spcBef>
              <a:buClr>
                <a:srgbClr val="0047b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7b6"/>
                </a:solidFill>
                <a:latin typeface="Arial"/>
              </a:rPr>
              <a:t>Technology platform, portfolio management, improving operational efficiency, revenue optimization and risk manageme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Strategic relationships that are built on improving revenue, process improvements and value-partnerships in a highly regulated, security sensitive environment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DCS is the Prime Contractor for Region A and is responsible for all RAC activities.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-376200">
              <a:lnSpc>
                <a:spcPct val="100000"/>
              </a:lnSpc>
              <a:spcBef>
                <a:spcPts val="550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7b6"/>
                </a:solidFill>
                <a:latin typeface="Arial"/>
              </a:rPr>
              <a:t>PRG-Schultz will be working as a subcontractor to DCS to support the audit activities.</a:t>
            </a: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C197-C852-4A2F-9C26-2DFAB64C1E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DCS’ Experience</a:t>
            </a:r>
            <a:endParaRPr b="0" lang="en-US" sz="2600" spc="-1" strike="noStrike">
              <a:solidFill>
                <a:srgbClr val="0047b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MS MSP RAC Demonstration (California) 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CMS Recovery of Medicare Beneficiary Prescription Drug Benefit Premium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.S. Department of the Treasury (MSP &amp; Non-MSP debts)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. S. Department of Education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te taxing authorities 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  <a:p>
            <a:pPr marL="630360" indent="-339840">
              <a:lnSpc>
                <a:spcPct val="90000"/>
              </a:lnSpc>
              <a:spcBef>
                <a:spcPts val="601"/>
              </a:spcBef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Federally chartered state student loan guarantee agencies</a:t>
            </a:r>
            <a:endParaRPr b="0" lang="en-US" sz="2400" spc="-1" strike="noStrike">
              <a:solidFill>
                <a:srgbClr val="0047b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DE06-1C7D-4297-942D-AE84227986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PRG-Schultz Corporate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8960" y="1600200"/>
            <a:ext cx="813924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G is subcontracting in Region A, supporting DCS in RAC audit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G has 12 years of Healthcare auditing industry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Healthcare Clients include Medicare, Medicaid &amp;  Commercial Pa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RAC Demonstration participation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85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F2DD-F5E6-401F-AB3C-0A9ABD662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45720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Staff Credent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8960" y="1447920"/>
            <a:ext cx="829152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2286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Experienced healthcare auditing operations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Physicians / Medical Directors providing audit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Registered Nurses / Certified Coders performing all claims &amp; service 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44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Experienced and knowledgeable Provider Services call center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51AA-4231-4289-95DC-B87B9B45FB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5720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Medical Director Responsi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960" y="1143000"/>
            <a:ext cx="82155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Understanding of NCD/LCD &amp; Medicare policies – providing clinical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RAC issues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Staff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Quality Assurance &amp;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Keeping abreast of current medical practice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Applying clinical expertise to possible effects on improper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ovider Outreach &amp; discussion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34920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DB64-1187-4D95-8A6F-355CA3D16D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25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7b6"/>
                </a:solidFill>
                <a:latin typeface="Arial"/>
              </a:rPr>
              <a:t>RAC Process for Au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85840"/>
            <a:ext cx="82915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</a:rPr>
              <a:t>Primary types of aud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39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omplex – includes additional documentation request &amp; audit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3984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Automated – based on payment policy &amp; data where two conditions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985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Certainty the service is not covered or is incorrectly coded, 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98520">
              <a:lnSpc>
                <a:spcPct val="90000"/>
              </a:lnSpc>
              <a:spcAft>
                <a:spcPts val="901"/>
              </a:spcAft>
              <a:buClr>
                <a:srgbClr val="0047b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b6"/>
                </a:solidFill>
                <a:latin typeface="Arial"/>
                <a:ea typeface="ＭＳ Ｐゴシック"/>
              </a:rPr>
              <a:t>A written Medicare policy, Medicare article or Medicare sanctioned coding guideline exists (e.g., CPT, Coding Clinic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201E-9CDD-47E9-8A99-352F443B4F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0:25:22Z</dcterms:created>
  <dc:creator>Mark Landkamer</dc:creator>
  <dc:description/>
  <dc:language>en-US</dc:language>
  <cp:lastModifiedBy>Frank Fortin</cp:lastModifiedBy>
  <dcterms:modified xsi:type="dcterms:W3CDTF">2009-09-17T16:06:13Z</dcterms:modified>
  <cp:revision>40</cp:revision>
  <dc:subject/>
  <dc:title>PowerPoint Presentation</dc:title>
</cp:coreProperties>
</file>