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42B871-4139-480B-9D85-AE540C5CB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6D0852-B659-40B5-89E3-8574BBC3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7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E60C-3333-458F-BF87-CF72315C5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018A-9853-4C3D-80DF-D0A8F25E9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BF85-9810-4E45-A085-235BAE666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D35C-35DA-474B-813A-CE75F473E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9610-0E49-49AB-8598-EF78F862BE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54A1-AA01-4200-95DF-EFBA9FE88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51C8-6F83-4598-97CD-36CC566B8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4A3A-7C97-40DE-8804-CE19BC005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E41A-E979-49AA-8BF6-7A85DDECC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A2E5-5D0D-46CA-AAC7-11798529B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732C-317F-455A-85C9-BBD68D14A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B50C-9243-4766-845A-41795068F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1520" y="6467400"/>
            <a:ext cx="1951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MS - DCS RAC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47b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29360" y="653868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1708-F451-4AD6-8C55-30E9C89002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RAS_RegionA@prgx.co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88960"/>
            <a:ext cx="9144000" cy="155916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S, a Performant Compa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very Audit Contractor (R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 Outreach Presentatio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58160" y="727200"/>
            <a:ext cx="1535040" cy="633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035160"/>
            <a:ext cx="9144000" cy="382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41DD-5798-4B93-8536-7B94082223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185840"/>
            <a:ext cx="836784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stablish a primary point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ntact the RAC to update you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Use on-line web-site to register and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spond to additional documentation request within 4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you can’t meet the timeline, please contact our Provider Service department &amp; request an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a findings letter is issued, please utilize the ‘discussion peri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munication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1E6E-A514-4CF9-B49F-C59974AFD4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371600"/>
            <a:ext cx="821520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Medical Record submission methods /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aper record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D / DVD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*  Ensure mailed media is sent in a tamper-eviden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0F57-3A45-4D23-8DC2-EDF1BBE833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Contac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8960" y="1600200"/>
            <a:ext cx="882504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oints of contact for MAC Region J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all Center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77-677-4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mail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MRASRegionA@prg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:               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66-340-06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ebsite address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ww.DCSRA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544B-3313-49C4-A565-6C2975408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44720" cy="35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C75B-E024-470D-899F-2257D12160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Today’s 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8960" y="1523880"/>
            <a:ext cx="739152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CS/PRG Corporat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cesses for Review &amp;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ontac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0497-0278-4A05-B8CE-F803D4F07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Key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960" y="1523880"/>
            <a:ext cx="882504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Yim, Vice President, Project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atherine Till, RAC Project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Wyatt, Vice President Health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r. Earl Berman, RAC Medica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3A97-6781-47A8-9913-EDD4055DF3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 (Diversified Collection Services)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a subsidiary of Performant Financial Corporation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Over 33 years experience providing service to large government agencies and private companies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ervices and products include: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lvl="1" marL="800280" indent="-266760">
              <a:spcBef>
                <a:spcPts val="499"/>
              </a:spcBef>
              <a:buClr>
                <a:srgbClr val="0047b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7b6"/>
                </a:solidFill>
                <a:latin typeface="Arial"/>
              </a:rPr>
              <a:t>Technology platform, portfolio management, improving operational efficiency, revenue optimization and risk managem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trategic relationships that are built on improving revenue, process improvements and value-partnerships in a highly regulated, security sensitive environment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the Prime Contractor for Region A and is responsible for all RAC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PRG-Schultz will be working as a subcontractor to DCS to support the audit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CBC2-C53E-40F0-9FB0-259E712D6C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’ Experience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MSP RAC Demonstration (California)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Recovery of Medicare Beneficiary Prescription Drug Benefit Premium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S. Department of the Treasury (MSP &amp; Non-MSP debts)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 S. Department of Education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te taxing authorities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Federally chartered state student loan guarantee agencies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7426-D920-46E9-83E9-804903E133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PRG-Schultz Corporate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960" y="1600200"/>
            <a:ext cx="81392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is subcontracting in Region A, supporting DCS in RAC audi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has 12 years of Healthcare auditing industry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Healthcare Clients include Medicare, Medicaid &amp;  Commercial Pa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Demonstration participation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8CFE-54FC-4837-ABC2-9E7A454BE0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8960" y="1447920"/>
            <a:ext cx="829152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286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Experienced healthcare auditing operations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hysicians / Medical Directors providing audit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gistered Nurses / Certified Coders performing all claims &amp; service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xperienced and knowledgeable Provider Services call center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671E-2298-4C69-86BE-EA329561EE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Medical Director Responsi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60" y="1143000"/>
            <a:ext cx="82155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nderstanding of NCD/LCD &amp; Medicare policies – providing clinical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issues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ality Assurance &amp;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Keeping abreast of current medical practi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Applying clinical expertise to possible effects on improper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vider Outreach &amp; discussion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6C69-98CF-4D23-B5B7-6D1F3A5AD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85840"/>
            <a:ext cx="82915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imary types of aud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plex – includes additional documentation request &amp; audit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utomated – based on payment policy &amp; data where two conditions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ertainty the service is not covered or is incorrectly coded, 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 written Medicare policy, Medicare article or Medicare sanctioned coding guideline exists (e.g., CPT, Coding Clinic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FC49-AFB9-4124-8143-8A6974B09C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0:25:22Z</dcterms:created>
  <dc:creator>Mark Landkamer</dc:creator>
  <dc:description/>
  <dc:language>en-US</dc:language>
  <cp:lastModifiedBy>Frank Fortin</cp:lastModifiedBy>
  <dcterms:modified xsi:type="dcterms:W3CDTF">2009-09-17T16:06:13Z</dcterms:modified>
  <cp:revision>40</cp:revision>
  <dc:subject/>
  <dc:title>PowerPoint Presentation</dc:title>
</cp:coreProperties>
</file>